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907588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42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1960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696960" y="739440"/>
            <a:ext cx="5348160" cy="370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377280"/>
            <a:ext cx="2921040" cy="4939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19600" y="9377280"/>
            <a:ext cx="2921040" cy="4939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98878-AF08-4E32-8C29-4CDDF3187812}" type="slidenum">
              <a:rPr b="0" lang="uk-U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696960" y="739800"/>
            <a:ext cx="5348160" cy="37018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19600" y="9377280"/>
            <a:ext cx="29210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29904-2AB2-4C76-BDED-87AD8645EFB8}" type="slidenum">
              <a:rPr b="0" lang="uk-UA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D215-0C5A-411A-B772-7630AB6D6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4059360"/>
            <a:ext cx="89154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DBB2-5D09-448D-A6B0-D8206D05D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4059360"/>
            <a:ext cx="4350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4059360"/>
            <a:ext cx="4350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1B6B-1EA2-47B8-979D-E387EBD9E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4059360"/>
            <a:ext cx="287064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4059360"/>
            <a:ext cx="287064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4059360"/>
            <a:ext cx="287064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BE55-262F-4D8E-A381-91DCFC6B7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B6102-088C-4E17-B01F-A287A9F68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303BA-9AA0-4193-B86D-309B18245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34DB6-717B-49FE-9C0B-393BC1071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D6394-B1D0-4CB1-9C1E-26524FEC4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2CAAB-4E9B-4D35-8A5A-D279F54C0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B6A1F-A891-4AB4-B214-B76EE9FC7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5000" y="4059360"/>
            <a:ext cx="4350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386C9-AF3E-48B9-B7EC-F33060B4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8856-EDBC-4A38-865C-4C1C3D276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63400" y="4059360"/>
            <a:ext cx="4350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7D90C-8A49-4E81-A062-27F756F1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000" y="4059360"/>
            <a:ext cx="89154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D0892-BD9E-4255-ACF1-E8582EAA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5000" y="4059360"/>
            <a:ext cx="89154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F8F72-DC51-4DB5-B0A8-F5BAE1BDE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5000" y="4059360"/>
            <a:ext cx="4350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63400" y="4059360"/>
            <a:ext cx="4350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8BF7D-A4A6-4A90-BA29-E1E4CCD12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000" y="4059360"/>
            <a:ext cx="287064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09640" y="4059360"/>
            <a:ext cx="287064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4280" y="4059360"/>
            <a:ext cx="287064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FEE41-CF93-4C9B-869F-EE58C7534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0929-C482-49E1-A54F-470CB5814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4456-2CBB-4541-B48A-F5B1663B1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789A-8B48-493C-BED3-5A42E09A1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C7A8-980C-4386-894D-FD94BAD03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4059360"/>
            <a:ext cx="4350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07F7-CFBC-42C2-AB7F-79B9896A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4059360"/>
            <a:ext cx="4350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3709-9705-430E-B45F-ACD249C4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4059360"/>
            <a:ext cx="89154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8DBC-E5A6-4186-80E5-0EA3F21A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41664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41664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84920" y="6416640"/>
            <a:ext cx="82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7108E-F595-4ADC-A9B0-6FBADD46B690}" type="slidenum">
              <a:rPr b="0" lang="uk-UA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95360" y="641664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384360" y="641664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584920" y="6416640"/>
            <a:ext cx="82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D5DDB-4936-4CE6-A1CD-1FC5DC9B4706}" type="slidenum">
              <a:rPr b="0" lang="uk-UA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4"/>
          <p:cNvSpPr/>
          <p:nvPr/>
        </p:nvSpPr>
        <p:spPr>
          <a:xfrm>
            <a:off x="1136520" y="2781360"/>
            <a:ext cx="813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КАРТА ПРІОРИТЕТІВ І ЦІЛЕЙ ПРОФЕСІЙНОЇ ДІЯЛЬНОСТІ ПОСАДОВОЇ ОСОБИ ОМ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4665600" y="1557360"/>
            <a:ext cx="4319640" cy="118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 u="sng">
                <a:solidFill>
                  <a:srgbClr val="800000"/>
                </a:solidFill>
                <a:uFillTx/>
                <a:latin typeface="Times New Roman"/>
              </a:rPr>
              <a:t>Кушнір Сергій Іванович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800000"/>
                </a:solidFill>
                <a:latin typeface="Times New Roman"/>
              </a:rPr>
              <a:t>(прізвище, ім’я, по батькові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 u="sng">
                <a:solidFill>
                  <a:srgbClr val="800000"/>
                </a:solidFill>
                <a:uFillTx/>
                <a:latin typeface="Times New Roman"/>
              </a:rPr>
              <a:t>Директор департаменту житлового господарств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800000"/>
                </a:solidFill>
                <a:latin typeface="Times New Roman"/>
              </a:rPr>
              <a:t>(посада</a:t>
            </a:r>
            <a:r>
              <a:rPr b="1" lang="uk-UA" sz="800" spc="-1" strike="noStrike">
                <a:solidFill>
                  <a:srgbClr val="800000"/>
                </a:solidFill>
                <a:latin typeface="Times New Roman"/>
              </a:rPr>
              <a:t>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Box 5"/>
          <p:cNvSpPr/>
          <p:nvPr/>
        </p:nvSpPr>
        <p:spPr>
          <a:xfrm>
            <a:off x="3657600" y="537372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Погоджено:</a:t>
            </a:r>
            <a:r>
              <a:rPr b="0" i="1" lang="uk-UA" sz="1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Володимир Кісті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Box 7"/>
          <p:cNvSpPr/>
          <p:nvPr/>
        </p:nvSpPr>
        <p:spPr>
          <a:xfrm>
            <a:off x="4305240" y="616572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Вінниця 20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Округлений прямокутник 12"/>
          <p:cNvGrpSpPr/>
          <p:nvPr/>
        </p:nvGrpSpPr>
        <p:grpSpPr>
          <a:xfrm>
            <a:off x="1249200" y="1017720"/>
            <a:ext cx="7894800" cy="1171440"/>
            <a:chOff x="1249200" y="1017720"/>
            <a:chExt cx="7894800" cy="1171440"/>
          </a:xfrm>
        </p:grpSpPr>
        <p:pic>
          <p:nvPicPr>
            <p:cNvPr id="173" name="Округлений прямокутник 12" descr=""/>
            <p:cNvPicPr/>
            <p:nvPr/>
          </p:nvPicPr>
          <p:blipFill>
            <a:blip r:embed="rId1"/>
            <a:stretch/>
          </p:blipFill>
          <p:spPr>
            <a:xfrm>
              <a:off x="1249200" y="1017720"/>
              <a:ext cx="7894800" cy="11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1440000" y="1211400"/>
              <a:ext cx="7457760" cy="69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III. </a:t>
              </a:r>
              <a:r>
                <a:rPr b="1" lang="uk-UA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ОСНОВНІ ЗАВДАННЯ ТА РЕЗУЛЬТАТИ РОБОТИ ЗА ЗВІТНИЙ ПЕРІО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75" name=""/>
          <p:cNvGraphicFramePr/>
          <p:nvPr/>
        </p:nvGraphicFramePr>
        <p:xfrm>
          <a:off x="1424160" y="2133720"/>
          <a:ext cx="7561080" cy="2801880"/>
        </p:xfrm>
        <a:graphic>
          <a:graphicData uri="http://schemas.openxmlformats.org/drawingml/2006/table">
            <a:tbl>
              <a:tblPr/>
              <a:tblGrid>
                <a:gridCol w="2376360"/>
                <a:gridCol w="3529080"/>
                <a:gridCol w="165564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вданн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езульта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ичини невиконанн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22264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 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лаштування прозорих офісів в ЖЕП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. Створити нові ОСБ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проваджено в роботу 2 прозорих офіси в приміщеннях МКП ЖЕК №5 та №1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ворено 37 нових ОСББ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3- відсутнє фінансуванн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3- небажання  співвласників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1352520" y="4653000"/>
          <a:ext cx="7561440" cy="1989000"/>
        </p:xfrm>
        <a:graphic>
          <a:graphicData uri="http://schemas.openxmlformats.org/drawingml/2006/table">
            <a:tbl>
              <a:tblPr/>
              <a:tblGrid>
                <a:gridCol w="2592360"/>
                <a:gridCol w="4969080"/>
              </a:tblGrid>
              <a:tr h="43164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цінка ступеня досягнення мети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1480">
                <a:tc>
                  <a:txBody>
                    <a:bodyPr anchor="t">
                      <a:noAutofit/>
                    </a:bodyPr>
                    <a:p>
                      <a:pPr marL="276120" indent="-276120">
                        <a:lnSpc>
                          <a:spcPct val="11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Wingdings 2"/>
                          <a:ea typeface="Wingdings 2"/>
                        </a:rPr>
                        <a:t>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езультати вище, ніж очікувалис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6120" indent="-276120">
                        <a:lnSpc>
                          <a:spcPct val="115000"/>
                        </a:lnSpc>
                        <a:spcBef>
                          <a:spcPts val="901"/>
                        </a:spcBef>
                        <a:buClr>
                          <a:srgbClr val="c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езультати нижче, ніж очікувалис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785880">
                <a:tc>
                  <a:txBody>
                    <a:bodyPr anchor="t">
                      <a:noAutofit/>
                    </a:bodyPr>
                    <a:p>
                      <a:pPr marL="276120" indent="-276120">
                        <a:lnSpc>
                          <a:spcPct val="11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Wingdings 2"/>
                          <a:ea typeface="Wingdings 2"/>
                        </a:rPr>
                        <a:t>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езультати відповідають поставленій мет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6120" indent="-276120">
                        <a:lnSpc>
                          <a:spcPct val="11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Wingdings 2"/>
                          <a:ea typeface="Wingdings 2"/>
                        </a:rPr>
                        <a:t>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Ціль не досягнута </a:t>
                      </a:r>
                      <a:r>
                        <a:rPr b="0" i="1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(при показниках менше 50% від запланованих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p:transition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Округлений прямокутник 12"/>
          <p:cNvGrpSpPr/>
          <p:nvPr/>
        </p:nvGrpSpPr>
        <p:grpSpPr>
          <a:xfrm>
            <a:off x="1249200" y="1017720"/>
            <a:ext cx="7894800" cy="1171440"/>
            <a:chOff x="1249200" y="1017720"/>
            <a:chExt cx="7894800" cy="1171440"/>
          </a:xfrm>
        </p:grpSpPr>
        <p:pic>
          <p:nvPicPr>
            <p:cNvPr id="178" name="Округлений прямокутник 12" descr=""/>
            <p:cNvPicPr/>
            <p:nvPr/>
          </p:nvPicPr>
          <p:blipFill>
            <a:blip r:embed="rId1"/>
            <a:stretch/>
          </p:blipFill>
          <p:spPr>
            <a:xfrm>
              <a:off x="1249200" y="1017720"/>
              <a:ext cx="7894800" cy="11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1440000" y="1211400"/>
              <a:ext cx="7457760" cy="69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III. </a:t>
              </a:r>
              <a:r>
                <a:rPr b="1" lang="uk-UA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ОСНОВНІ ЗАВДАННЯ ТА РЕЗУЛЬТАТИ РОБОТИ ЗА ЗВІТНИЙ ПЕРІО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80" name=""/>
          <p:cNvGraphicFramePr/>
          <p:nvPr/>
        </p:nvGraphicFramePr>
        <p:xfrm>
          <a:off x="1424160" y="1989000"/>
          <a:ext cx="7561080" cy="3283200"/>
        </p:xfrm>
        <a:graphic>
          <a:graphicData uri="http://schemas.openxmlformats.org/drawingml/2006/table">
            <a:tbl>
              <a:tblPr/>
              <a:tblGrid>
                <a:gridCol w="2663640"/>
                <a:gridCol w="3457440"/>
                <a:gridCol w="1440000"/>
              </a:tblGrid>
              <a:tr h="604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вданн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езульта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ичини невиконанн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67840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 Створення маневрового фонд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 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кращення технічного стану та підвищення енергоефективності  житлових будинків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. 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безпечення належного рівня поточної експлуатації житлового фонду  у відповідності до вимог нормативів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реконструкцію 2 нежитлових приміщень  по вул. Тарногродського,37 під маневровий фонд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конано капітальний ремонт житлового фонду на суму 10189,9 тис. грн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безпечено виконання плану поточного ремонту житлового фонду на 122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1352520" y="5186520"/>
          <a:ext cx="7561440" cy="1670040"/>
        </p:xfrm>
        <a:graphic>
          <a:graphicData uri="http://schemas.openxmlformats.org/drawingml/2006/table">
            <a:tbl>
              <a:tblPr/>
              <a:tblGrid>
                <a:gridCol w="2922480"/>
                <a:gridCol w="4638960"/>
              </a:tblGrid>
              <a:tr h="3661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цінка ступеня досягнення мети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1960">
                <a:tc>
                  <a:txBody>
                    <a:bodyPr anchor="t">
                      <a:noAutofit/>
                    </a:bodyPr>
                    <a:p>
                      <a:pPr marL="276120" indent="-276120">
                        <a:lnSpc>
                          <a:spcPct val="11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Wingdings 2"/>
                          <a:ea typeface="Wingdings 2"/>
                        </a:rPr>
                        <a:t>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езультати вище, ніж очікувалис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6120" indent="-276120">
                        <a:lnSpc>
                          <a:spcPct val="11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Wingdings 2"/>
                          <a:ea typeface="Wingdings 2"/>
                        </a:rPr>
                        <a:t>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езультати нижче, ніж очікувалис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51960">
                <a:tc>
                  <a:txBody>
                    <a:bodyPr anchor="t">
                      <a:noAutofit/>
                    </a:bodyPr>
                    <a:p>
                      <a:pPr marL="276120" indent="-276120">
                        <a:lnSpc>
                          <a:spcPct val="115000"/>
                        </a:lnSpc>
                        <a:spcBef>
                          <a:spcPts val="901"/>
                        </a:spcBef>
                        <a:buClr>
                          <a:srgbClr val="c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езультати відповідають поставленій мет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6120" indent="-276120">
                        <a:lnSpc>
                          <a:spcPct val="11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Wingdings 2"/>
                          <a:ea typeface="Wingdings 2"/>
                        </a:rPr>
                        <a:t>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Ціль не досягнута </a:t>
                      </a:r>
                      <a:r>
                        <a:rPr b="0" i="1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(при показниках менше 50% від запланованих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p:transition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Округлений прямокутник 12"/>
          <p:cNvGrpSpPr/>
          <p:nvPr/>
        </p:nvGrpSpPr>
        <p:grpSpPr>
          <a:xfrm>
            <a:off x="1249200" y="1017720"/>
            <a:ext cx="7894800" cy="1171440"/>
            <a:chOff x="1249200" y="1017720"/>
            <a:chExt cx="7894800" cy="1171440"/>
          </a:xfrm>
        </p:grpSpPr>
        <p:pic>
          <p:nvPicPr>
            <p:cNvPr id="183" name="Округлений прямокутник 12" descr=""/>
            <p:cNvPicPr/>
            <p:nvPr/>
          </p:nvPicPr>
          <p:blipFill>
            <a:blip r:embed="rId1"/>
            <a:stretch/>
          </p:blipFill>
          <p:spPr>
            <a:xfrm>
              <a:off x="1249200" y="1017720"/>
              <a:ext cx="7894800" cy="11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1440000" y="1211400"/>
              <a:ext cx="7457760" cy="69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III. </a:t>
              </a:r>
              <a:r>
                <a:rPr b="1" lang="uk-UA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ОСНОВНІ ЗАВДАННЯ ТА РЕЗУЛЬТАТИ РОБОТИ ЗА ЗВІТНИЙ ПЕРІО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85" name=""/>
          <p:cNvGraphicFramePr/>
          <p:nvPr/>
        </p:nvGraphicFramePr>
        <p:xfrm>
          <a:off x="1424160" y="1989000"/>
          <a:ext cx="7561080" cy="3283200"/>
        </p:xfrm>
        <a:graphic>
          <a:graphicData uri="http://schemas.openxmlformats.org/drawingml/2006/table">
            <a:tbl>
              <a:tblPr/>
              <a:tblGrid>
                <a:gridCol w="2663640"/>
                <a:gridCol w="3457440"/>
                <a:gridCol w="1440000"/>
              </a:tblGrid>
              <a:tr h="604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вданн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езульта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ичини невиконанн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67840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о колективу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 Підвищення рівня кваліфікації працівникі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о керівнику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 Підвищення кваліфікації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асть в 6 семінарах та 1 виставці, які проходили в м. Києві та Львов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їздка до м. Кельце (Польща) по обміну досвідо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1352520" y="5186520"/>
          <a:ext cx="7561440" cy="1670040"/>
        </p:xfrm>
        <a:graphic>
          <a:graphicData uri="http://schemas.openxmlformats.org/drawingml/2006/table">
            <a:tbl>
              <a:tblPr/>
              <a:tblGrid>
                <a:gridCol w="2922480"/>
                <a:gridCol w="4638960"/>
              </a:tblGrid>
              <a:tr h="3661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цінка ступеня досягнення мети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1960">
                <a:tc>
                  <a:txBody>
                    <a:bodyPr anchor="t">
                      <a:noAutofit/>
                    </a:bodyPr>
                    <a:p>
                      <a:pPr marL="276120" indent="-276120">
                        <a:lnSpc>
                          <a:spcPct val="11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Wingdings 2"/>
                          <a:ea typeface="Wingdings 2"/>
                        </a:rPr>
                        <a:t>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езультати вище, ніж очікувалис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6120" indent="-276120">
                        <a:lnSpc>
                          <a:spcPct val="11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Wingdings 2"/>
                          <a:ea typeface="Wingdings 2"/>
                        </a:rPr>
                        <a:t>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езультати нижче, ніж очікувалис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51960">
                <a:tc>
                  <a:txBody>
                    <a:bodyPr anchor="t">
                      <a:noAutofit/>
                    </a:bodyPr>
                    <a:p>
                      <a:pPr marL="276120" indent="-276120">
                        <a:lnSpc>
                          <a:spcPct val="115000"/>
                        </a:lnSpc>
                        <a:spcBef>
                          <a:spcPts val="901"/>
                        </a:spcBef>
                        <a:buClr>
                          <a:srgbClr val="c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езультати відповідають поставленій мет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6120" indent="-276120">
                        <a:lnSpc>
                          <a:spcPct val="11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Wingdings 2"/>
                          <a:ea typeface="Wingdings 2"/>
                        </a:rPr>
                        <a:t>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Ціль не досягнута </a:t>
                      </a:r>
                      <a:r>
                        <a:rPr b="0" i="1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(при показниках менше 50% від запланованих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p:transition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Округлений прямокутник 12"/>
          <p:cNvGrpSpPr/>
          <p:nvPr/>
        </p:nvGrpSpPr>
        <p:grpSpPr>
          <a:xfrm>
            <a:off x="1176480" y="1017720"/>
            <a:ext cx="7967520" cy="1171440"/>
            <a:chOff x="1176480" y="1017720"/>
            <a:chExt cx="7967520" cy="1171440"/>
          </a:xfrm>
        </p:grpSpPr>
        <p:pic>
          <p:nvPicPr>
            <p:cNvPr id="188" name="Округлений прямокутник 12" descr=""/>
            <p:cNvPicPr/>
            <p:nvPr/>
          </p:nvPicPr>
          <p:blipFill>
            <a:blip r:embed="rId1"/>
            <a:stretch/>
          </p:blipFill>
          <p:spPr>
            <a:xfrm>
              <a:off x="1176480" y="1017720"/>
              <a:ext cx="7967520" cy="11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1368360" y="1211400"/>
              <a:ext cx="7529400" cy="69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IV. </a:t>
              </a:r>
              <a:r>
                <a:rPr b="1" lang="uk-UA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РІОРИТЕТНІ НАПРЯМКИ РОБОТИ НА НАСТУПНИЙ РІК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90" name=""/>
          <p:cNvGraphicFramePr/>
          <p:nvPr/>
        </p:nvGraphicFramePr>
        <p:xfrm>
          <a:off x="1281240" y="2060640"/>
          <a:ext cx="7632720" cy="4103640"/>
        </p:xfrm>
        <a:graphic>
          <a:graphicData uri="http://schemas.openxmlformats.org/drawingml/2006/table">
            <a:tbl>
              <a:tblPr/>
              <a:tblGrid>
                <a:gridCol w="2592360"/>
                <a:gridCol w="3114720"/>
                <a:gridCol w="1925640"/>
              </a:tblGrid>
              <a:tr h="137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тратегічні цілі  на 2013 рі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нкретні завдання по досягненню стратегічних цілей з    кількісними та якісними показниками, які планується досягти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інцевий термін досягнення показника (у розрізі 4-х кварталів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724120">
                <a:tc>
                  <a:txBody>
                    <a:bodyPr lIns="114480" rIns="1144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Впровадженн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изованої систем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іння житлово 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унальним господарство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. Вінниці (програмн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укт  ТОВ  «ЕнТехЕко»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ершення автоматизації бізнес –процесів  діяльності МКП  “ЖЕК-12”. Дослідна експлуатація програми (виявлення та доопрацювання недоліків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ення в промислову  експлуатацію  АСУ ЖКГ м. Вінниці   для МКП “ЖЕК-12”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 кв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І кв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ІІ кв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p:transition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Округлений прямокутник 12"/>
          <p:cNvGrpSpPr/>
          <p:nvPr/>
        </p:nvGrpSpPr>
        <p:grpSpPr>
          <a:xfrm>
            <a:off x="1176480" y="1017720"/>
            <a:ext cx="7967520" cy="1171440"/>
            <a:chOff x="1176480" y="1017720"/>
            <a:chExt cx="7967520" cy="1171440"/>
          </a:xfrm>
        </p:grpSpPr>
        <p:pic>
          <p:nvPicPr>
            <p:cNvPr id="192" name="Округлений прямокутник 12" descr=""/>
            <p:cNvPicPr/>
            <p:nvPr/>
          </p:nvPicPr>
          <p:blipFill>
            <a:blip r:embed="rId1"/>
            <a:stretch/>
          </p:blipFill>
          <p:spPr>
            <a:xfrm>
              <a:off x="1176480" y="1017720"/>
              <a:ext cx="7967520" cy="11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1368360" y="1211400"/>
              <a:ext cx="7529400" cy="69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IV. </a:t>
              </a:r>
              <a:r>
                <a:rPr b="1" lang="uk-UA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РІОРИТЕТНІ НАПРЯМКИ РОБОТИ НА НАСТУПНИЙ РІК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94" name=""/>
          <p:cNvGraphicFramePr/>
          <p:nvPr/>
        </p:nvGraphicFramePr>
        <p:xfrm>
          <a:off x="1281240" y="2060640"/>
          <a:ext cx="7632720" cy="4579920"/>
        </p:xfrm>
        <a:graphic>
          <a:graphicData uri="http://schemas.openxmlformats.org/drawingml/2006/table">
            <a:tbl>
              <a:tblPr/>
              <a:tblGrid>
                <a:gridCol w="2447640"/>
                <a:gridCol w="3024360"/>
                <a:gridCol w="2160720"/>
              </a:tblGrid>
              <a:tr h="137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тратегічні цілі  на 2013 рі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нкретні завдання по досягненню стратегічних цілей з    кількісними та якісними показниками, які планується досягти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інцевий термін досягнення показника (у розрізі 4-х кварталів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200400">
                <a:tc>
                  <a:txBody>
                    <a:bodyPr lIns="114480" rIns="1144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кращенн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хнічного стану 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вищенн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нергоефективност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тлових будинкі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безпеченн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ежно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івня поточної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ксплуатації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тлового фонду  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повідності до вимог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ативів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0180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ня капітально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0180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монту  та реконструкції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0180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тлового фонду  на суму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0180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490 тис.грн. 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50180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 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ис.грн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50180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0 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ис.грн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50180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90 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ис.грн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50180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0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ис.грн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0180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100% виконання ЖЕП план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0180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поточного ремонту житлово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0180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фонду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3300"/>
                        </a:buClr>
                        <a:buFont typeface="Wingdings" charset="2"/>
                        <a:buChar char=""/>
                        <a:tabLst>
                          <a:tab algn="l" pos="50180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3300"/>
                        </a:buClr>
                        <a:buFont typeface="Wingdings" charset="2"/>
                        <a:buChar char=""/>
                        <a:tabLst>
                          <a:tab algn="l" pos="50180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35 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3300"/>
                        </a:buClr>
                        <a:buFont typeface="Wingdings" charset="2"/>
                        <a:buChar char=""/>
                        <a:tabLst>
                          <a:tab algn="l" pos="50180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65 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3300"/>
                        </a:buClr>
                        <a:buFont typeface="Wingdings" charset="2"/>
                        <a:buChar char=""/>
                        <a:tabLst>
                          <a:tab algn="l" pos="50180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 кв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І кв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ІІ кв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 кв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І кв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ІІ кв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p:transition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Округлений прямокутник 12"/>
          <p:cNvGrpSpPr/>
          <p:nvPr/>
        </p:nvGrpSpPr>
        <p:grpSpPr>
          <a:xfrm>
            <a:off x="1176480" y="1017720"/>
            <a:ext cx="7967520" cy="1171440"/>
            <a:chOff x="1176480" y="1017720"/>
            <a:chExt cx="7967520" cy="1171440"/>
          </a:xfrm>
        </p:grpSpPr>
        <p:pic>
          <p:nvPicPr>
            <p:cNvPr id="196" name="Округлений прямокутник 12" descr=""/>
            <p:cNvPicPr/>
            <p:nvPr/>
          </p:nvPicPr>
          <p:blipFill>
            <a:blip r:embed="rId1"/>
            <a:stretch/>
          </p:blipFill>
          <p:spPr>
            <a:xfrm>
              <a:off x="1176480" y="1017720"/>
              <a:ext cx="7967520" cy="11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1368360" y="1211400"/>
              <a:ext cx="7529400" cy="69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IV. </a:t>
              </a:r>
              <a:r>
                <a:rPr b="1" lang="uk-UA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РІОРИТЕТНІ НАПРЯМКИ РОБОТИ НА НАСТУПНИЙ РІК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98" name=""/>
          <p:cNvGraphicFramePr/>
          <p:nvPr/>
        </p:nvGraphicFramePr>
        <p:xfrm>
          <a:off x="1281240" y="2060640"/>
          <a:ext cx="7632720" cy="4103640"/>
        </p:xfrm>
        <a:graphic>
          <a:graphicData uri="http://schemas.openxmlformats.org/drawingml/2006/table">
            <a:tbl>
              <a:tblPr/>
              <a:tblGrid>
                <a:gridCol w="2592360"/>
                <a:gridCol w="3114720"/>
                <a:gridCol w="1925640"/>
              </a:tblGrid>
              <a:tr h="137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тратегічні цілі  на 2013 рі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нкретні завдання по досягненню стратегічних цілей з    кількісними та якісними показниками, які планується досягти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інцевий термін досягнення показника (у розрізі 4-х кварталів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724120">
                <a:tc>
                  <a:txBody>
                    <a:bodyPr lIns="114480" rIns="1144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Влаштування прозорих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фісів в ЖЕП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провадження в роботу  2 прозорих офісів в конторах ЖЕП: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зроблення проектно-кошторисної документації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ня робіт  по офісу ЖЕК № 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ня робіт  по офісу ЖЕК № 16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едення в експлуатацію прозорих офісі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 кв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І кв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ІІ кв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p:transition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Округлений прямокутник 12"/>
          <p:cNvGrpSpPr/>
          <p:nvPr/>
        </p:nvGrpSpPr>
        <p:grpSpPr>
          <a:xfrm>
            <a:off x="1176480" y="1017720"/>
            <a:ext cx="7967520" cy="1171440"/>
            <a:chOff x="1176480" y="1017720"/>
            <a:chExt cx="7967520" cy="1171440"/>
          </a:xfrm>
        </p:grpSpPr>
        <p:pic>
          <p:nvPicPr>
            <p:cNvPr id="200" name="Округлений прямокутник 12" descr=""/>
            <p:cNvPicPr/>
            <p:nvPr/>
          </p:nvPicPr>
          <p:blipFill>
            <a:blip r:embed="rId1"/>
            <a:stretch/>
          </p:blipFill>
          <p:spPr>
            <a:xfrm>
              <a:off x="1176480" y="1017720"/>
              <a:ext cx="7967520" cy="11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1368360" y="1211400"/>
              <a:ext cx="7529400" cy="69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IV. </a:t>
              </a:r>
              <a:r>
                <a:rPr b="1" lang="uk-UA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РІОРИТЕТНІ НАПРЯМКИ РОБОТИ НА НАСТУПНИЙ РІК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02" name=""/>
          <p:cNvGraphicFramePr/>
          <p:nvPr/>
        </p:nvGraphicFramePr>
        <p:xfrm>
          <a:off x="1281240" y="2060640"/>
          <a:ext cx="7632720" cy="4792680"/>
        </p:xfrm>
        <a:graphic>
          <a:graphicData uri="http://schemas.openxmlformats.org/drawingml/2006/table">
            <a:tbl>
              <a:tblPr/>
              <a:tblGrid>
                <a:gridCol w="2158920"/>
                <a:gridCol w="3673440"/>
                <a:gridCol w="1800360"/>
              </a:tblGrid>
              <a:tr h="13795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тратегічні цілі  на 2013 рі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нкретні завдання по досягненню стратегічних цілей з    кількісними та якісними показниками, які планується досягти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інцевий термін досягнення показника (у розрізі 4-х кварталів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413160">
                <a:tc>
                  <a:txBody>
                    <a:bodyPr lIns="114480" rIns="1144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Створити нові ОСБ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ворення 40 нових ОСББ в місті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33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uk-UA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5 об’єднан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33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uk-UA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9 об’єднан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33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uk-UA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11 об’єднан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33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uk-UA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15 об’єднан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довження реалізації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вчального курсу для  управителі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ББ на базі Вінницько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іонального технічного університет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а підготовка 100 управителів ОСББ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чол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чол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ня роз’яснювальної робо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щодо доцільності укладання  40 ОСБ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говорів з МКП “ОЦ ЖКГ” 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ня розрахунків за ЖКГ послуг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 кв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І кв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ІІ кв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І кв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p:transition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Округлений прямокутник 12"/>
          <p:cNvGrpSpPr/>
          <p:nvPr/>
        </p:nvGrpSpPr>
        <p:grpSpPr>
          <a:xfrm>
            <a:off x="1176480" y="1017720"/>
            <a:ext cx="7967520" cy="1171440"/>
            <a:chOff x="1176480" y="1017720"/>
            <a:chExt cx="7967520" cy="1171440"/>
          </a:xfrm>
        </p:grpSpPr>
        <p:pic>
          <p:nvPicPr>
            <p:cNvPr id="204" name="Округлений прямокутник 12" descr=""/>
            <p:cNvPicPr/>
            <p:nvPr/>
          </p:nvPicPr>
          <p:blipFill>
            <a:blip r:embed="rId1"/>
            <a:stretch/>
          </p:blipFill>
          <p:spPr>
            <a:xfrm>
              <a:off x="1176480" y="1017720"/>
              <a:ext cx="7967520" cy="11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1368360" y="1211400"/>
              <a:ext cx="7529400" cy="69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IV. </a:t>
              </a:r>
              <a:r>
                <a:rPr b="1" lang="uk-UA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РІОРИТЕТНІ НАПРЯМКИ РОБОТИ НА НАСТУПНИЙ РІК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06" name=""/>
          <p:cNvGraphicFramePr/>
          <p:nvPr/>
        </p:nvGraphicFramePr>
        <p:xfrm>
          <a:off x="1281240" y="2060640"/>
          <a:ext cx="7632720" cy="4103640"/>
        </p:xfrm>
        <a:graphic>
          <a:graphicData uri="http://schemas.openxmlformats.org/drawingml/2006/table">
            <a:tbl>
              <a:tblPr/>
              <a:tblGrid>
                <a:gridCol w="2376360"/>
                <a:gridCol w="3456000"/>
                <a:gridCol w="1800360"/>
              </a:tblGrid>
              <a:tr h="137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тратегічні цілі  на 2013 рі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нкретні завдання по досягненню стратегічних цілей з    кількісними та якісними показниками, які планується досягти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інцевий термін досягнення показника (у розрізі 4-х кварталів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724120">
                <a:tc>
                  <a:txBody>
                    <a:bodyPr lIns="114480" rIns="1144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Впорядкуванн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удинкових територі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Сертифікування з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ою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33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uk-UA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Влаштування 5 місць для паркування автотранспорту на прибудинкових територія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33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33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33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тифікувати за системою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O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один із ЖЕКі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ІІ кв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p:transition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Округлений прямокутник 12"/>
          <p:cNvGrpSpPr/>
          <p:nvPr/>
        </p:nvGrpSpPr>
        <p:grpSpPr>
          <a:xfrm>
            <a:off x="1176480" y="1017720"/>
            <a:ext cx="7967520" cy="1171440"/>
            <a:chOff x="1176480" y="1017720"/>
            <a:chExt cx="7967520" cy="1171440"/>
          </a:xfrm>
        </p:grpSpPr>
        <p:pic>
          <p:nvPicPr>
            <p:cNvPr id="208" name="Округлений прямокутник 12" descr=""/>
            <p:cNvPicPr/>
            <p:nvPr/>
          </p:nvPicPr>
          <p:blipFill>
            <a:blip r:embed="rId1"/>
            <a:stretch/>
          </p:blipFill>
          <p:spPr>
            <a:xfrm>
              <a:off x="1176480" y="1017720"/>
              <a:ext cx="7967520" cy="11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1368360" y="1211400"/>
              <a:ext cx="7529400" cy="69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IV. </a:t>
              </a:r>
              <a:r>
                <a:rPr b="1" lang="uk-UA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РІОРИТЕТНІ НАПРЯМКИ РОБОТИ НА НАСТУПНИЙ РІК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10" name=""/>
          <p:cNvGraphicFramePr/>
          <p:nvPr/>
        </p:nvGraphicFramePr>
        <p:xfrm>
          <a:off x="1281240" y="2060640"/>
          <a:ext cx="7632720" cy="4103640"/>
        </p:xfrm>
        <a:graphic>
          <a:graphicData uri="http://schemas.openxmlformats.org/drawingml/2006/table">
            <a:tbl>
              <a:tblPr/>
              <a:tblGrid>
                <a:gridCol w="2376360"/>
                <a:gridCol w="3456000"/>
                <a:gridCol w="1800360"/>
              </a:tblGrid>
              <a:tr h="137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тратегічні цілі  на 2013 рі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нкретні завдання по досягненню стратегічних цілей з    кількісними та якісними показниками, які планується досягти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інцевий термін досягнення показника (у розрізі 4-х кварталів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724120">
                <a:tc>
                  <a:txBody>
                    <a:bodyPr lIns="114480" rIns="1144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Розвиток напрямк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щодо покращення робо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 обліку та розподіл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тл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33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Впорядкування квартирних черг згідно наданих  громадянами документів та які не провели перереєстрацію особових спра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33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Продовження роботи по наповненню маневрового фонду міста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33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Створення програмного продукту автоматизованої системи «Квартоблік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33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Створення реєстру неприватизованого житла міс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 кв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-І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в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І кв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p:transition>
    <p:push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Округлений прямокутник 12"/>
          <p:cNvGrpSpPr/>
          <p:nvPr/>
        </p:nvGrpSpPr>
        <p:grpSpPr>
          <a:xfrm>
            <a:off x="1249200" y="1017720"/>
            <a:ext cx="7967880" cy="1171440"/>
            <a:chOff x="1249200" y="1017720"/>
            <a:chExt cx="7967880" cy="1171440"/>
          </a:xfrm>
        </p:grpSpPr>
        <p:pic>
          <p:nvPicPr>
            <p:cNvPr id="212" name="Округлений прямокутник 12" descr=""/>
            <p:cNvPicPr/>
            <p:nvPr/>
          </p:nvPicPr>
          <p:blipFill>
            <a:blip r:embed="rId1"/>
            <a:stretch/>
          </p:blipFill>
          <p:spPr>
            <a:xfrm>
              <a:off x="1249200" y="1017720"/>
              <a:ext cx="7967880" cy="11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1440000" y="1211400"/>
              <a:ext cx="7530840" cy="69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V. </a:t>
              </a:r>
              <a:r>
                <a:rPr b="1" lang="uk-UA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РІОРИТЕТНІ НАПРЯМКИ РОБОТИ НА ДОВГОСТРОКОВУ ПЕРСПЕКТИВУ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14" name=""/>
          <p:cNvGraphicFramePr/>
          <p:nvPr/>
        </p:nvGraphicFramePr>
        <p:xfrm>
          <a:off x="1424160" y="2205000"/>
          <a:ext cx="7489800" cy="4518000"/>
        </p:xfrm>
        <a:graphic>
          <a:graphicData uri="http://schemas.openxmlformats.org/drawingml/2006/table">
            <a:tbl>
              <a:tblPr/>
              <a:tblGrid>
                <a:gridCol w="2089080"/>
                <a:gridCol w="3600360"/>
                <a:gridCol w="1800360"/>
              </a:tblGrid>
              <a:tr h="1065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вдання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казники досягнення мети ( яких конкретно кількісних і якісних показників планується досягти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інцевий термін досягнення  очікуваного показника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91844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Впровадження автоматизованої системи управління житлово-комунальним господарством м. Вінниці (програмний продукт ТОВ «ЕнТехЕко»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0180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томатизація  бізнес процесі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0180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іяльності  11 житлово –експлуатаційни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0180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приємств міс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0180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5р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31920">
                <a:tc gridSpan="3">
                  <a:txBody>
                    <a:bodyPr lIns="90000" rIns="9000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позиції щодо розвитку галуз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01680">
                <a:tc gridSpan="3">
                  <a:txBody>
                    <a:bodyPr lIns="90000" rIns="900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Округлений прямокутник 4" descr=""/>
          <p:cNvPicPr/>
          <p:nvPr/>
        </p:nvPicPr>
        <p:blipFill>
          <a:blip r:embed="rId1"/>
          <a:stretch/>
        </p:blipFill>
        <p:spPr>
          <a:xfrm>
            <a:off x="974880" y="2908440"/>
            <a:ext cx="7522920" cy="895320"/>
          </a:xfrm>
          <a:prstGeom prst="rect">
            <a:avLst/>
          </a:prstGeom>
          <a:ln w="0">
            <a:noFill/>
          </a:ln>
        </p:spPr>
      </p:pic>
      <p:grpSp>
        <p:nvGrpSpPr>
          <p:cNvPr id="94" name="Округлений прямокутник 12"/>
          <p:cNvGrpSpPr/>
          <p:nvPr/>
        </p:nvGrpSpPr>
        <p:grpSpPr>
          <a:xfrm>
            <a:off x="1249200" y="950760"/>
            <a:ext cx="7967880" cy="835200"/>
            <a:chOff x="1249200" y="950760"/>
            <a:chExt cx="7967880" cy="835200"/>
          </a:xfrm>
        </p:grpSpPr>
        <p:pic>
          <p:nvPicPr>
            <p:cNvPr id="95" name="Округлений прямокутник 12" descr=""/>
            <p:cNvPicPr/>
            <p:nvPr/>
          </p:nvPicPr>
          <p:blipFill>
            <a:blip r:embed="rId2"/>
            <a:stretch/>
          </p:blipFill>
          <p:spPr>
            <a:xfrm>
              <a:off x="1249200" y="950760"/>
              <a:ext cx="796788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433520" y="1133640"/>
              <a:ext cx="754236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c00000"/>
                  </a:solidFill>
                  <a:latin typeface="Times New Roman"/>
                </a:rPr>
                <a:t>І. НАЗВА ПІДРОЗДІЛУ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Округлений прямокутник 12"/>
          <p:cNvGrpSpPr/>
          <p:nvPr/>
        </p:nvGrpSpPr>
        <p:grpSpPr>
          <a:xfrm>
            <a:off x="890640" y="5126040"/>
            <a:ext cx="7893000" cy="1098720"/>
            <a:chOff x="890640" y="5126040"/>
            <a:chExt cx="7893000" cy="1098720"/>
          </a:xfrm>
        </p:grpSpPr>
        <p:pic>
          <p:nvPicPr>
            <p:cNvPr id="98" name="Округлений прямокутник 12" descr=""/>
            <p:cNvPicPr/>
            <p:nvPr/>
          </p:nvPicPr>
          <p:blipFill>
            <a:blip r:embed="rId3"/>
            <a:stretch/>
          </p:blipFill>
          <p:spPr>
            <a:xfrm>
              <a:off x="890640" y="5126040"/>
              <a:ext cx="7893000" cy="109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1077840" y="5315040"/>
              <a:ext cx="746136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300" spc="-1" strike="noStrike">
                  <a:solidFill>
                    <a:srgbClr val="c00000"/>
                  </a:solidFill>
                  <a:latin typeface="Times New Roman"/>
                </a:rPr>
                <a:t>ІІ. СТРУКТУРА ПІДРОЗДІЛУ В ГРАФІЧНОМУ  ВИГЛЯДІ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c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Округлений прямокутник 12"/>
          <p:cNvGrpSpPr/>
          <p:nvPr/>
        </p:nvGrpSpPr>
        <p:grpSpPr>
          <a:xfrm>
            <a:off x="1249200" y="1017720"/>
            <a:ext cx="7967880" cy="1171440"/>
            <a:chOff x="1249200" y="1017720"/>
            <a:chExt cx="7967880" cy="1171440"/>
          </a:xfrm>
        </p:grpSpPr>
        <p:pic>
          <p:nvPicPr>
            <p:cNvPr id="216" name="Округлений прямокутник 12" descr=""/>
            <p:cNvPicPr/>
            <p:nvPr/>
          </p:nvPicPr>
          <p:blipFill>
            <a:blip r:embed="rId1"/>
            <a:stretch/>
          </p:blipFill>
          <p:spPr>
            <a:xfrm>
              <a:off x="1249200" y="1017720"/>
              <a:ext cx="7967880" cy="11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1440000" y="1211400"/>
              <a:ext cx="7530840" cy="69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V. </a:t>
              </a:r>
              <a:r>
                <a:rPr b="1" lang="uk-UA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РІОРИТЕТНІ НАПРЯМКИ РОБОТИ НА ДОВГОСТРОКОВУ ПЕРСПЕКТИВУ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18" name=""/>
          <p:cNvGraphicFramePr/>
          <p:nvPr/>
        </p:nvGraphicFramePr>
        <p:xfrm>
          <a:off x="1424160" y="2205000"/>
          <a:ext cx="7488000" cy="4129200"/>
        </p:xfrm>
        <a:graphic>
          <a:graphicData uri="http://schemas.openxmlformats.org/drawingml/2006/table">
            <a:tbl>
              <a:tblPr/>
              <a:tblGrid>
                <a:gridCol w="2744640"/>
                <a:gridCol w="2697120"/>
                <a:gridCol w="2046240"/>
              </a:tblGrid>
              <a:tr h="1311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вдання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казники досягнення мети ( яких конкретно кількісних і якісних показників планується досягти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інцевий термін досягнення  очікуваного показника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157040">
                <a:tc>
                  <a:txBody>
                    <a:bodyPr lIns="114120" rIns="11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Покращення технічного стану та підвищення енергоефективності  житлових будинкі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14120" marR="11412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0180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ня капітально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0180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монту  та реконструкції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0180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тлового фонду в межа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0180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ілених бюджетни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0180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значен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0180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 31 грудня щорічн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0360">
                <a:tc gridSpan="3">
                  <a:txBody>
                    <a:bodyPr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позиції щодо розвитку галуз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00320">
                <a:tc gridSpan="3">
                  <a:txBody>
                    <a:bodyPr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push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Округлений прямокутник 12"/>
          <p:cNvGrpSpPr/>
          <p:nvPr/>
        </p:nvGrpSpPr>
        <p:grpSpPr>
          <a:xfrm>
            <a:off x="1249200" y="1017720"/>
            <a:ext cx="7967880" cy="1171440"/>
            <a:chOff x="1249200" y="1017720"/>
            <a:chExt cx="7967880" cy="1171440"/>
          </a:xfrm>
        </p:grpSpPr>
        <p:pic>
          <p:nvPicPr>
            <p:cNvPr id="220" name="Округлений прямокутник 12" descr=""/>
            <p:cNvPicPr/>
            <p:nvPr/>
          </p:nvPicPr>
          <p:blipFill>
            <a:blip r:embed="rId1"/>
            <a:stretch/>
          </p:blipFill>
          <p:spPr>
            <a:xfrm>
              <a:off x="1249200" y="1017720"/>
              <a:ext cx="7967880" cy="11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440000" y="1211400"/>
              <a:ext cx="7530840" cy="69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V. </a:t>
              </a:r>
              <a:r>
                <a:rPr b="1" lang="uk-UA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РІОРИТЕТНІ НАПРЯМКИ РОБОТИ НА ДОВГОСТРОКОВУ ПЕРСПЕКТИВУ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22" name=""/>
          <p:cNvGraphicFramePr/>
          <p:nvPr/>
        </p:nvGraphicFramePr>
        <p:xfrm>
          <a:off x="1424160" y="2205000"/>
          <a:ext cx="7489800" cy="4037040"/>
        </p:xfrm>
        <a:graphic>
          <a:graphicData uri="http://schemas.openxmlformats.org/drawingml/2006/table">
            <a:tbl>
              <a:tblPr/>
              <a:tblGrid>
                <a:gridCol w="2744640"/>
                <a:gridCol w="2698560"/>
                <a:gridCol w="2046600"/>
              </a:tblGrid>
              <a:tr h="1311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вдання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казники досягнення мети ( яких конкретно кількісних і якісних показників планується досягти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інцевий термін досягнення  очікуваного показника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06668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Забезпечення належного рівня поточної експлуатації житлового фонду  у відповідності до вимог нормативів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0180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 виконання ЖЕП план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0180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точного ремонту житлово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0180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0180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 31 грудня щорічн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0180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58560">
                <a:tc gridSpan="3">
                  <a:txBody>
                    <a:bodyPr lIns="90000" rIns="9000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позиції щодо розвитку галуз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00320">
                <a:tc gridSpan="3">
                  <a:txBody>
                    <a:bodyPr lIns="90000" rIns="900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push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Округлений прямокутник 12"/>
          <p:cNvGrpSpPr/>
          <p:nvPr/>
        </p:nvGrpSpPr>
        <p:grpSpPr>
          <a:xfrm>
            <a:off x="1249200" y="950760"/>
            <a:ext cx="7967880" cy="1127160"/>
            <a:chOff x="1249200" y="950760"/>
            <a:chExt cx="7967880" cy="1127160"/>
          </a:xfrm>
        </p:grpSpPr>
        <p:pic>
          <p:nvPicPr>
            <p:cNvPr id="224" name="Округлений прямокутник 12" descr=""/>
            <p:cNvPicPr/>
            <p:nvPr/>
          </p:nvPicPr>
          <p:blipFill>
            <a:blip r:embed="rId1"/>
            <a:stretch/>
          </p:blipFill>
          <p:spPr>
            <a:xfrm>
              <a:off x="1249200" y="950760"/>
              <a:ext cx="796788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1440000" y="1139760"/>
              <a:ext cx="7530840" cy="69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V</a:t>
              </a:r>
              <a:r>
                <a:rPr b="1" lang="en-US" sz="20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US" sz="21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.</a:t>
              </a:r>
              <a:r>
                <a:rPr b="1" lang="uk-UA" sz="21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ВИЗНАЧЕННЯ ПРОБЛЕМНИХ ПИТАНЬ ПІДРОЗДІЛУ ТА НАДАННЯ ПРОПОЗИЦІЙ ЩОДО ЇХ ВИРІШЕННЯ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26" name=""/>
          <p:cNvGraphicFramePr/>
          <p:nvPr/>
        </p:nvGraphicFramePr>
        <p:xfrm>
          <a:off x="1424160" y="2060640"/>
          <a:ext cx="7488000" cy="4419360"/>
        </p:xfrm>
        <a:graphic>
          <a:graphicData uri="http://schemas.openxmlformats.org/drawingml/2006/table">
            <a:tbl>
              <a:tblPr/>
              <a:tblGrid>
                <a:gridCol w="2025360"/>
                <a:gridCol w="2511720"/>
                <a:gridCol w="29509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блемні питанн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ичини виникнення проблемних питан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позиції щодо вирішення питанн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503880">
                <a:tc>
                  <a:txBody>
                    <a:bodyPr lIns="114480" rIns="1144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Неналежний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ічний ста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динків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ідсутність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ахових управителі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тлових комплексів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Недостатн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ащені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унальни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приємст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хнічними засобами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достатнє  фінансуванн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ідсутні на державному рівні чіткі вимоги та стандарти до управителя житлового комплексу та навчальні програми по його підготовц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сутність  коштів  для придбання  техні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безпечення виконання планів поточного та капітального ремонтів за дольовою участю мешканців та інших організаці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ня навчального курс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я управителів ОСББ на баз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інницького Національно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хнічного університет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дбання  комунальним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ідприємствами  нової техніки з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хунок коштів міського бюджет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поповнення статутно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пітал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p:transition>
    <p:push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Округлений прямокутник 12"/>
          <p:cNvGrpSpPr/>
          <p:nvPr/>
        </p:nvGrpSpPr>
        <p:grpSpPr>
          <a:xfrm>
            <a:off x="1249200" y="950760"/>
            <a:ext cx="7894800" cy="1195560"/>
            <a:chOff x="1249200" y="950760"/>
            <a:chExt cx="7894800" cy="1195560"/>
          </a:xfrm>
        </p:grpSpPr>
        <p:pic>
          <p:nvPicPr>
            <p:cNvPr id="228" name="Округлений прямокутник 12" descr=""/>
            <p:cNvPicPr/>
            <p:nvPr/>
          </p:nvPicPr>
          <p:blipFill>
            <a:blip r:embed="rId1"/>
            <a:stretch/>
          </p:blipFill>
          <p:spPr>
            <a:xfrm>
              <a:off x="1249200" y="950760"/>
              <a:ext cx="7894800" cy="11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1441440" y="1141560"/>
              <a:ext cx="7454880" cy="75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08192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VII. </a:t>
              </a:r>
              <a:r>
                <a:rPr b="1" lang="uk-UA" sz="20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ЗАВДАННЯ, СПРЯМОВАНІ НА ПІДВИЩЕННЯ ЕФЕКТИВНОСТІ ДІЯЛЬНОСТІ КЕРІВНИК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30" name=""/>
          <p:cNvGraphicFramePr/>
          <p:nvPr/>
        </p:nvGraphicFramePr>
        <p:xfrm>
          <a:off x="1281240" y="2060640"/>
          <a:ext cx="7632720" cy="4541760"/>
        </p:xfrm>
        <a:graphic>
          <a:graphicData uri="http://schemas.openxmlformats.org/drawingml/2006/table">
            <a:tbl>
              <a:tblPr/>
              <a:tblGrid>
                <a:gridCol w="2808000"/>
                <a:gridCol w="3089520"/>
                <a:gridCol w="1735200"/>
              </a:tblGrid>
              <a:tr h="1554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вдання  на 2013 рі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казники досягнення мети ( яких конкретно кількісних і якісних показників планується досягти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інцевий термін досягнення показника (у розрізі 4-х кварталів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987640">
                <a:tc>
                  <a:txBody>
                    <a:bodyPr lIns="114480" rIns="1144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Підвищення кваліфікації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Запровадження нової форм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римання житл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Розвиток комунальни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ідприємств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асть у 2-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оукраїнських семінара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ворення та забезпечення функціонування  підприємства – управителя житловим  фондо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більшення доходів від інши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ів діяльності не менше як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  10% :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33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2 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33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4 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33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6 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33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10 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гідно запрошен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І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в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 кв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І кв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ІІ кв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p:transition>
    <p:push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1352520" y="2133720"/>
          <a:ext cx="7561440" cy="4389480"/>
        </p:xfrm>
        <a:graphic>
          <a:graphicData uri="http://schemas.openxmlformats.org/drawingml/2006/table">
            <a:tbl>
              <a:tblPr/>
              <a:tblGrid>
                <a:gridCol w="2133720"/>
                <a:gridCol w="3267000"/>
                <a:gridCol w="2160720"/>
              </a:tblGrid>
              <a:tr h="131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вдання  на 2013 рі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казники досягнення мети ( яких конкретно кількісних і якісних показників планується досягти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інцевий термін досягнення показника (у розрізі 4-х кварталів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78360">
                <a:tc>
                  <a:txBody>
                    <a:bodyPr lIns="114480" rIns="1144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Плани роботи на 2013р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Підвищення рівн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ліфікації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цівникі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Професійн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вдосконаленн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цівників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ь не менше 5  працівників 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альноукраїнських семінарах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’їздах, виставках, не менше 2-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їздок у інші  міста України з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міном досвіду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сутність обгрунтованих скарг 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профісійні дії працівників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ічен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гідно запрошен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Щокварталу станом 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5 число місяця, щ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слідує за звітни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періодом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grpSp>
        <p:nvGrpSpPr>
          <p:cNvPr id="232" name="Округлений прямокутник 12"/>
          <p:cNvGrpSpPr/>
          <p:nvPr/>
        </p:nvGrpSpPr>
        <p:grpSpPr>
          <a:xfrm>
            <a:off x="1249200" y="1017720"/>
            <a:ext cx="7967880" cy="1201680"/>
            <a:chOff x="1249200" y="1017720"/>
            <a:chExt cx="7967880" cy="1201680"/>
          </a:xfrm>
        </p:grpSpPr>
        <p:pic>
          <p:nvPicPr>
            <p:cNvPr id="233" name="Округлений прямокутник 12" descr=""/>
            <p:cNvPicPr/>
            <p:nvPr/>
          </p:nvPicPr>
          <p:blipFill>
            <a:blip r:embed="rId1"/>
            <a:stretch/>
          </p:blipFill>
          <p:spPr>
            <a:xfrm>
              <a:off x="1249200" y="1017720"/>
              <a:ext cx="796788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1441440" y="1212840"/>
              <a:ext cx="752796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VIII. </a:t>
              </a:r>
              <a:r>
                <a:rPr b="1" lang="uk-UA" sz="2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ЗАВДАННЯ, СПРЯМОВАНІ НА ПІДВИЩЕННЯ ЕФЕКТИВНОСТІ ДІЯЛЬНОСТІ КОЛЕКТИВУ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push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"/>
          <p:cNvGraphicFramePr/>
          <p:nvPr/>
        </p:nvGraphicFramePr>
        <p:xfrm>
          <a:off x="1352520" y="2133720"/>
          <a:ext cx="7561440" cy="3743280"/>
        </p:xfrm>
        <a:graphic>
          <a:graphicData uri="http://schemas.openxmlformats.org/drawingml/2006/table">
            <a:tbl>
              <a:tblPr/>
              <a:tblGrid>
                <a:gridCol w="2160720"/>
                <a:gridCol w="2952720"/>
                <a:gridCol w="2448000"/>
              </a:tblGrid>
              <a:tr h="124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вдання  на 2013 рі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казники досягнення мети ( яких конкретно кількісних і якісних показників планується досягти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інцевий термін досягнення показника (у розрізі 4-х кварталів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494080">
                <a:tc>
                  <a:txBody>
                    <a:bodyPr lIns="114480" rIns="1144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Вчасний та якісн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згляд  звернен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омадя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Стимулюванн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цівників д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фективної робо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Проведенн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ільного дозвілля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сутність порушення терміні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згляду звернен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даткове преміювання 30%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щих працівників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ня 1 спартакіади, 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отників, 1 подорож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Щокварталу станом на 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число місяця, що слідує з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звітним періодом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Щомісячно станом 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15 число наступного з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звітним місяце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-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ІІ кв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grpSp>
        <p:nvGrpSpPr>
          <p:cNvPr id="236" name="Округлений прямокутник 12"/>
          <p:cNvGrpSpPr/>
          <p:nvPr/>
        </p:nvGrpSpPr>
        <p:grpSpPr>
          <a:xfrm>
            <a:off x="1249200" y="1017720"/>
            <a:ext cx="7967880" cy="1201680"/>
            <a:chOff x="1249200" y="1017720"/>
            <a:chExt cx="7967880" cy="1201680"/>
          </a:xfrm>
        </p:grpSpPr>
        <p:pic>
          <p:nvPicPr>
            <p:cNvPr id="237" name="Округлений прямокутник 12" descr=""/>
            <p:cNvPicPr/>
            <p:nvPr/>
          </p:nvPicPr>
          <p:blipFill>
            <a:blip r:embed="rId1"/>
            <a:stretch/>
          </p:blipFill>
          <p:spPr>
            <a:xfrm>
              <a:off x="1249200" y="1017720"/>
              <a:ext cx="796788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1441440" y="1212840"/>
              <a:ext cx="752796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VIII. </a:t>
              </a:r>
              <a:r>
                <a:rPr b="1" lang="uk-UA" sz="2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ЗАВДАННЯ, СПРЯМОВАНІ НА ПІДВИЩЕННЯ ЕФЕКТИВНОСТІ ДІЯЛЬНОСТІ КОЛЕКТИВУ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2"/>
          <p:cNvSpPr/>
          <p:nvPr/>
        </p:nvSpPr>
        <p:spPr>
          <a:xfrm>
            <a:off x="647640" y="341280"/>
            <a:ext cx="793296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6025"/>
              </a:gs>
              <a:gs pos="50000">
                <a:srgbClr val="92d050"/>
              </a:gs>
              <a:gs pos="100000">
                <a:srgbClr val="44602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ffffff"/>
                </a:solidFill>
                <a:latin typeface="Arial"/>
              </a:rPr>
              <a:t>Директор Департамента житлового господарства Кушнір С.І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Oval 3"/>
          <p:cNvSpPr/>
          <p:nvPr/>
        </p:nvSpPr>
        <p:spPr>
          <a:xfrm>
            <a:off x="3081240" y="1052640"/>
            <a:ext cx="2808360" cy="1152360"/>
          </a:xfrm>
          <a:prstGeom prst="ellipse">
            <a:avLst/>
          </a:prstGeom>
          <a:gradFill rotWithShape="0">
            <a:gsLst>
              <a:gs pos="0">
                <a:srgbClr val="524b5c"/>
              </a:gs>
              <a:gs pos="50000">
                <a:srgbClr val="b2a1c7"/>
              </a:gs>
              <a:gs pos="100000">
                <a:srgbClr val="524b5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Заступник директора, начальник відділу з обліку та розподілу житла </a:t>
            </a: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Фурман  Р.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Oval 4"/>
          <p:cNvSpPr/>
          <p:nvPr/>
        </p:nvSpPr>
        <p:spPr>
          <a:xfrm>
            <a:off x="0" y="2357280"/>
            <a:ext cx="1727280" cy="1670040"/>
          </a:xfrm>
          <a:prstGeom prst="ellipse">
            <a:avLst/>
          </a:prstGeom>
          <a:gradFill rotWithShape="0">
            <a:gsLst>
              <a:gs pos="0">
                <a:srgbClr val="fabf8f"/>
              </a:gs>
              <a:gs pos="100000">
                <a:srgbClr val="74584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ffffff"/>
                </a:solidFill>
                <a:latin typeface="Arial"/>
              </a:rPr>
              <a:t>Начальник відділу капітального ремонту та розвитку житлового господарства Ткачук С.М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Oval 5"/>
          <p:cNvSpPr/>
          <p:nvPr/>
        </p:nvSpPr>
        <p:spPr>
          <a:xfrm>
            <a:off x="1873080" y="2357280"/>
            <a:ext cx="1627200" cy="1670040"/>
          </a:xfrm>
          <a:prstGeom prst="ellipse">
            <a:avLst/>
          </a:prstGeom>
          <a:gradFill rotWithShape="0">
            <a:gsLst>
              <a:gs pos="0">
                <a:srgbClr val="fabf8f"/>
              </a:gs>
              <a:gs pos="100000">
                <a:srgbClr val="74584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ffffff"/>
                </a:solidFill>
                <a:latin typeface="Calibri"/>
              </a:rPr>
              <a:t>Начальник відділу поточного утримання будинків та прибудинкових територій Гречанюк С.О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6"/>
          <p:cNvSpPr/>
          <p:nvPr/>
        </p:nvSpPr>
        <p:spPr>
          <a:xfrm>
            <a:off x="1496880" y="836640"/>
            <a:ext cx="108000" cy="385560"/>
          </a:xfrm>
          <a:prstGeom prst="downArrow">
            <a:avLst>
              <a:gd name="adj1" fmla="val 50000"/>
              <a:gd name="adj2" fmla="val 1694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5" name="AutoShape 8"/>
          <p:cNvCxnSpPr>
            <a:stCxn id="106" idx="4"/>
          </p:cNvCxnSpPr>
          <p:nvPr/>
        </p:nvCxnSpPr>
        <p:spPr>
          <a:xfrm>
            <a:off x="1568520" y="2028600"/>
            <a:ext cx="792720" cy="39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AutoShape 9"/>
          <p:cNvCxnSpPr>
            <a:stCxn id="106" idx="4"/>
            <a:endCxn id="102" idx="0"/>
          </p:cNvCxnSpPr>
          <p:nvPr/>
        </p:nvCxnSpPr>
        <p:spPr>
          <a:xfrm flipH="1">
            <a:off x="863640" y="2028960"/>
            <a:ext cx="705240" cy="329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AutoShape 11"/>
          <p:cNvSpPr/>
          <p:nvPr/>
        </p:nvSpPr>
        <p:spPr>
          <a:xfrm>
            <a:off x="2163600" y="4230720"/>
            <a:ext cx="1285920" cy="64764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ffffff"/>
                </a:solidFill>
                <a:latin typeface="Calibri"/>
              </a:rPr>
              <a:t>Заступник начальника відділу Лисий В.І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12"/>
          <p:cNvSpPr/>
          <p:nvPr/>
        </p:nvSpPr>
        <p:spPr>
          <a:xfrm>
            <a:off x="200160" y="4221000"/>
            <a:ext cx="128592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5f66"/>
              </a:gs>
              <a:gs pos="50000">
                <a:srgbClr val="92cddc"/>
              </a:gs>
              <a:gs pos="100000">
                <a:srgbClr val="445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ffffff"/>
                </a:solidFill>
                <a:latin typeface="Calibri"/>
              </a:rPr>
              <a:t>Головний спеціаліст Капецька В.С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2" idx="4"/>
            <a:endCxn id="109" idx="0"/>
          </p:cNvCxnSpPr>
          <p:nvPr/>
        </p:nvCxnSpPr>
        <p:spPr>
          <a:xfrm flipH="1">
            <a:off x="842760" y="4027320"/>
            <a:ext cx="20880" cy="1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AutoShape 14"/>
          <p:cNvCxnSpPr>
            <a:endCxn id="108" idx="0"/>
          </p:cNvCxnSpPr>
          <p:nvPr/>
        </p:nvCxnSpPr>
        <p:spPr>
          <a:xfrm>
            <a:off x="2767680" y="4021200"/>
            <a:ext cx="38520" cy="21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AutoShape 15"/>
          <p:cNvSpPr/>
          <p:nvPr/>
        </p:nvSpPr>
        <p:spPr>
          <a:xfrm>
            <a:off x="2141640" y="5165640"/>
            <a:ext cx="9889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5f66"/>
              </a:gs>
              <a:gs pos="100000">
                <a:srgbClr val="92cdd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ffffff"/>
                </a:solidFill>
                <a:latin typeface="Calibri"/>
              </a:rPr>
              <a:t>Головний спеціаліст Коваль В.А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863640" y="5165640"/>
            <a:ext cx="11095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5f66"/>
              </a:gs>
              <a:gs pos="100000">
                <a:srgbClr val="92cdd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ffffff"/>
                </a:solidFill>
                <a:latin typeface="Calibri"/>
              </a:rPr>
              <a:t>Головний спеціаліст Стоянова О.В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3303720" y="5165640"/>
            <a:ext cx="11332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5f66"/>
              </a:gs>
              <a:gs pos="100000">
                <a:srgbClr val="92cdd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ffffff"/>
                </a:solidFill>
                <a:latin typeface="Calibri"/>
              </a:rPr>
              <a:t>Головний спеціаліст Лосєва Л.П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5" name="AutoShape 18"/>
          <p:cNvCxnSpPr/>
          <p:nvPr/>
        </p:nvCxnSpPr>
        <p:spPr>
          <a:xfrm>
            <a:off x="3368160" y="4869000"/>
            <a:ext cx="3834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" name="AutoShape 19"/>
          <p:cNvCxnSpPr/>
          <p:nvPr/>
        </p:nvCxnSpPr>
        <p:spPr>
          <a:xfrm flipH="1">
            <a:off x="1569240" y="4878360"/>
            <a:ext cx="66420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" name="AutoShape 20"/>
          <p:cNvCxnSpPr>
            <a:stCxn id="108" idx="2"/>
          </p:cNvCxnSpPr>
          <p:nvPr/>
        </p:nvCxnSpPr>
        <p:spPr>
          <a:xfrm flipH="1">
            <a:off x="2736720" y="4878000"/>
            <a:ext cx="70200" cy="292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8" name="Oval 21"/>
          <p:cNvSpPr/>
          <p:nvPr/>
        </p:nvSpPr>
        <p:spPr>
          <a:xfrm>
            <a:off x="5262480" y="2421000"/>
            <a:ext cx="1627200" cy="1655640"/>
          </a:xfrm>
          <a:prstGeom prst="ellipse">
            <a:avLst/>
          </a:prstGeom>
          <a:gradFill rotWithShape="0">
            <a:gsLst>
              <a:gs pos="0">
                <a:srgbClr val="fabf8f"/>
              </a:gs>
              <a:gs pos="100000">
                <a:srgbClr val="74584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ffffff"/>
                </a:solidFill>
                <a:latin typeface="Calibri"/>
              </a:rPr>
              <a:t>Начальник відділу бухгалтерського обліку та фінансової звітності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ffffff"/>
                </a:solidFill>
                <a:latin typeface="Calibri"/>
              </a:rPr>
              <a:t>Ткач Н.М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Oval 22"/>
          <p:cNvSpPr/>
          <p:nvPr/>
        </p:nvSpPr>
        <p:spPr>
          <a:xfrm>
            <a:off x="3529080" y="2430360"/>
            <a:ext cx="1627200" cy="1668600"/>
          </a:xfrm>
          <a:prstGeom prst="ellipse">
            <a:avLst/>
          </a:prstGeom>
          <a:gradFill rotWithShape="0">
            <a:gsLst>
              <a:gs pos="0">
                <a:srgbClr val="fabf8f"/>
              </a:gs>
              <a:gs pos="100000">
                <a:srgbClr val="74584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ffffff"/>
                </a:solidFill>
                <a:latin typeface="Calibri"/>
              </a:rPr>
              <a:t>Начальник відділу розвитку ОСББ Танасійчук В.П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0" name="AutoShape 23"/>
          <p:cNvCxnSpPr/>
          <p:nvPr/>
        </p:nvCxnSpPr>
        <p:spPr>
          <a:xfrm>
            <a:off x="4392360" y="408636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AutoShape 24"/>
          <p:cNvSpPr/>
          <p:nvPr/>
        </p:nvSpPr>
        <p:spPr>
          <a:xfrm>
            <a:off x="5384880" y="4365720"/>
            <a:ext cx="116820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5f66"/>
              </a:gs>
              <a:gs pos="100000">
                <a:srgbClr val="92cdd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ffffff"/>
                </a:solidFill>
                <a:latin typeface="Calibri"/>
              </a:rPr>
              <a:t>Головний спеціаліст Ткачук Н.П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2" name="AutoShape 25"/>
          <p:cNvCxnSpPr>
            <a:endCxn id="121" idx="0"/>
          </p:cNvCxnSpPr>
          <p:nvPr/>
        </p:nvCxnSpPr>
        <p:spPr>
          <a:xfrm flipH="1">
            <a:off x="5968800" y="4076280"/>
            <a:ext cx="64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" name="AutoShape 26"/>
          <p:cNvSpPr/>
          <p:nvPr/>
        </p:nvSpPr>
        <p:spPr>
          <a:xfrm>
            <a:off x="3672000" y="4373640"/>
            <a:ext cx="12859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5f66"/>
              </a:gs>
              <a:gs pos="100000">
                <a:srgbClr val="92cdd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ffffff"/>
                </a:solidFill>
                <a:latin typeface="Calibri"/>
              </a:rPr>
              <a:t>Головний спеціаліст                    Габа П.В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28"/>
          <p:cNvSpPr/>
          <p:nvPr/>
        </p:nvSpPr>
        <p:spPr>
          <a:xfrm>
            <a:off x="5889600" y="846000"/>
            <a:ext cx="306360" cy="1575000"/>
          </a:xfrm>
          <a:prstGeom prst="downArrow">
            <a:avLst>
              <a:gd name="adj1" fmla="val 50000"/>
              <a:gd name="adj2" fmla="val 1317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29"/>
          <p:cNvSpPr/>
          <p:nvPr/>
        </p:nvSpPr>
        <p:spPr>
          <a:xfrm>
            <a:off x="7905600" y="844560"/>
            <a:ext cx="309600" cy="1647720"/>
          </a:xfrm>
          <a:prstGeom prst="downArrow">
            <a:avLst>
              <a:gd name="adj1" fmla="val 50000"/>
              <a:gd name="adj2" fmla="val 12854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Oval 30"/>
          <p:cNvSpPr/>
          <p:nvPr/>
        </p:nvSpPr>
        <p:spPr>
          <a:xfrm>
            <a:off x="7184880" y="2492280"/>
            <a:ext cx="1704960" cy="1584360"/>
          </a:xfrm>
          <a:prstGeom prst="ellipse">
            <a:avLst/>
          </a:prstGeom>
          <a:gradFill rotWithShape="0">
            <a:gsLst>
              <a:gs pos="0">
                <a:srgbClr val="fabf8f"/>
              </a:gs>
              <a:gs pos="100000">
                <a:srgbClr val="74584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ffffff"/>
                </a:solidFill>
                <a:latin typeface="Arial"/>
              </a:rPr>
              <a:t>Начальник планово-економічного відділу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ffffff"/>
                </a:solidFill>
                <a:latin typeface="Arial"/>
              </a:rPr>
              <a:t>Осавелюк О.М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7" name="AutoShape 31"/>
          <p:cNvCxnSpPr/>
          <p:nvPr/>
        </p:nvCxnSpPr>
        <p:spPr>
          <a:xfrm>
            <a:off x="8408880" y="4005000"/>
            <a:ext cx="21672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AutoShape 32"/>
          <p:cNvSpPr/>
          <p:nvPr/>
        </p:nvSpPr>
        <p:spPr>
          <a:xfrm>
            <a:off x="6681960" y="4365720"/>
            <a:ext cx="106200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5f66"/>
              </a:gs>
              <a:gs pos="100000">
                <a:srgbClr val="92cdd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ffffff"/>
                </a:solidFill>
                <a:latin typeface="Calibri"/>
              </a:rPr>
              <a:t>Головний спеціаліст Риверчук Л.І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33"/>
          <p:cNvSpPr/>
          <p:nvPr/>
        </p:nvSpPr>
        <p:spPr>
          <a:xfrm>
            <a:off x="7905600" y="4365720"/>
            <a:ext cx="10670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5f66"/>
              </a:gs>
              <a:gs pos="50000">
                <a:srgbClr val="92cddc"/>
              </a:gs>
              <a:gs pos="100000">
                <a:srgbClr val="445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ffffff"/>
                </a:solidFill>
                <a:latin typeface="Calibri"/>
              </a:rPr>
              <a:t>Головний спеціаліст Матвієнко Т.А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AutoShape 34"/>
          <p:cNvCxnSpPr/>
          <p:nvPr/>
        </p:nvCxnSpPr>
        <p:spPr>
          <a:xfrm flipH="1">
            <a:off x="7473600" y="3933720"/>
            <a:ext cx="216720" cy="424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" name="AutoShape 11"/>
          <p:cNvSpPr/>
          <p:nvPr/>
        </p:nvSpPr>
        <p:spPr>
          <a:xfrm>
            <a:off x="4592520" y="5157720"/>
            <a:ext cx="1368720" cy="64764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ffffff"/>
                </a:solidFill>
                <a:latin typeface="Calibri"/>
              </a:rPr>
              <a:t>Заступник начальника відділу Завірюха І.В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Полілінія 143"/>
          <p:cNvSpPr/>
          <p:nvPr/>
        </p:nvSpPr>
        <p:spPr>
          <a:xfrm>
            <a:off x="4162320" y="16574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98874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27"/>
          <p:cNvSpPr/>
          <p:nvPr/>
        </p:nvSpPr>
        <p:spPr>
          <a:xfrm flipH="1">
            <a:off x="5168880" y="2133720"/>
            <a:ext cx="71280" cy="3024000"/>
          </a:xfrm>
          <a:prstGeom prst="downArrow">
            <a:avLst>
              <a:gd name="adj1" fmla="val 50000"/>
              <a:gd name="adj2" fmla="val 19267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15"/>
          <p:cNvSpPr/>
          <p:nvPr/>
        </p:nvSpPr>
        <p:spPr>
          <a:xfrm>
            <a:off x="4665600" y="6093000"/>
            <a:ext cx="122400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5f66"/>
              </a:gs>
              <a:gs pos="100000">
                <a:srgbClr val="92cdd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ffffff"/>
                </a:solidFill>
                <a:latin typeface="Calibri"/>
              </a:rPr>
              <a:t>Головний спеціаліст Плахотнюк З.П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16"/>
          <p:cNvSpPr/>
          <p:nvPr/>
        </p:nvSpPr>
        <p:spPr>
          <a:xfrm>
            <a:off x="2720880" y="6093000"/>
            <a:ext cx="11098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5f66"/>
              </a:gs>
              <a:gs pos="100000">
                <a:srgbClr val="92cdd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ffffff"/>
                </a:solidFill>
                <a:latin typeface="Calibri"/>
              </a:rPr>
              <a:t>Головний спеціаліст Стоянова Н.В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17"/>
          <p:cNvSpPr/>
          <p:nvPr/>
        </p:nvSpPr>
        <p:spPr>
          <a:xfrm>
            <a:off x="6681960" y="6093000"/>
            <a:ext cx="11332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5f66"/>
              </a:gs>
              <a:gs pos="100000">
                <a:srgbClr val="92cdd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ffffff"/>
                </a:solidFill>
                <a:latin typeface="Calibri"/>
              </a:rPr>
              <a:t>Головний спеціаліст Висоцький А.О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7" name="AutoShape 25"/>
          <p:cNvCxnSpPr>
            <a:stCxn id="131" idx="2"/>
            <a:endCxn id="134" idx="0"/>
          </p:cNvCxnSpPr>
          <p:nvPr/>
        </p:nvCxnSpPr>
        <p:spPr>
          <a:xfrm>
            <a:off x="5276520" y="5805000"/>
            <a:ext cx="1080" cy="28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AutoShape 34"/>
          <p:cNvCxnSpPr>
            <a:stCxn id="131" idx="2"/>
            <a:endCxn id="135" idx="0"/>
          </p:cNvCxnSpPr>
          <p:nvPr/>
        </p:nvCxnSpPr>
        <p:spPr>
          <a:xfrm flipH="1">
            <a:off x="3274200" y="5805000"/>
            <a:ext cx="2002680" cy="28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AutoShape 34"/>
          <p:cNvCxnSpPr>
            <a:stCxn id="131" idx="2"/>
            <a:endCxn id="136" idx="0"/>
          </p:cNvCxnSpPr>
          <p:nvPr/>
        </p:nvCxnSpPr>
        <p:spPr>
          <a:xfrm>
            <a:off x="5276520" y="5805000"/>
            <a:ext cx="1972440" cy="28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Oval 3"/>
          <p:cNvSpPr/>
          <p:nvPr/>
        </p:nvSpPr>
        <p:spPr>
          <a:xfrm>
            <a:off x="704880" y="1197000"/>
            <a:ext cx="1727280" cy="831960"/>
          </a:xfrm>
          <a:prstGeom prst="ellipse">
            <a:avLst/>
          </a:prstGeom>
          <a:gradFill rotWithShape="0">
            <a:gsLst>
              <a:gs pos="0">
                <a:srgbClr val="524b5c"/>
              </a:gs>
              <a:gs pos="50000">
                <a:srgbClr val="b2a1c7"/>
              </a:gs>
              <a:gs pos="100000">
                <a:srgbClr val="524b5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Заступник директор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27"/>
          <p:cNvSpPr/>
          <p:nvPr/>
        </p:nvSpPr>
        <p:spPr>
          <a:xfrm>
            <a:off x="4376880" y="2205000"/>
            <a:ext cx="71280" cy="216000"/>
          </a:xfrm>
          <a:prstGeom prst="downArrow">
            <a:avLst>
              <a:gd name="adj1" fmla="val 50000"/>
              <a:gd name="adj2" fmla="val 1924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6"/>
          <p:cNvSpPr/>
          <p:nvPr/>
        </p:nvSpPr>
        <p:spPr>
          <a:xfrm>
            <a:off x="4376880" y="836640"/>
            <a:ext cx="71280" cy="216000"/>
          </a:xfrm>
          <a:prstGeom prst="downArrow">
            <a:avLst>
              <a:gd name="adj1" fmla="val 50000"/>
              <a:gd name="adj2" fmla="val 17135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Округлений прямокутник 12"/>
          <p:cNvGrpSpPr/>
          <p:nvPr/>
        </p:nvGrpSpPr>
        <p:grpSpPr>
          <a:xfrm>
            <a:off x="1249200" y="1017720"/>
            <a:ext cx="7894800" cy="1171440"/>
            <a:chOff x="1249200" y="1017720"/>
            <a:chExt cx="7894800" cy="1171440"/>
          </a:xfrm>
        </p:grpSpPr>
        <p:pic>
          <p:nvPicPr>
            <p:cNvPr id="143" name="Округлений прямокутник 12" descr=""/>
            <p:cNvPicPr/>
            <p:nvPr/>
          </p:nvPicPr>
          <p:blipFill>
            <a:blip r:embed="rId1"/>
            <a:stretch/>
          </p:blipFill>
          <p:spPr>
            <a:xfrm>
              <a:off x="1249200" y="1017720"/>
              <a:ext cx="7894800" cy="11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440000" y="1211400"/>
              <a:ext cx="7457760" cy="69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III. </a:t>
              </a:r>
              <a:r>
                <a:rPr b="1" lang="uk-UA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ОСНОВНІ ЗАВДАННЯ ТА РЕЗУЛЬТАТИ РОБОТИ ЗА ЗВІТНИЙ ПЕРІО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45" name=""/>
          <p:cNvGraphicFramePr/>
          <p:nvPr/>
        </p:nvGraphicFramePr>
        <p:xfrm>
          <a:off x="1352520" y="2060640"/>
          <a:ext cx="7561440" cy="2987640"/>
        </p:xfrm>
        <a:graphic>
          <a:graphicData uri="http://schemas.openxmlformats.org/drawingml/2006/table">
            <a:tbl>
              <a:tblPr/>
              <a:tblGrid>
                <a:gridCol w="2664000"/>
                <a:gridCol w="3313080"/>
                <a:gridCol w="158436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вданн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езульта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ичини невиконанн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34720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Фортифікування  ремонтної бази ВМКП “Вінницяміськліфт”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Впорядкування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рибудинкових територі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й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Продовження реалізації навчального курсу для управителів ОСББ на базі Вінницького Національного технічного університету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ворено цех  з виготовлення  комплектуючих для модернізації та ремонту ліфті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конано поточний ремонт  30,6 тис.кв.м асфальтобетонного покриття прибудинкових територій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готовлено 100 управителів ОСБ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1352520" y="5084640"/>
          <a:ext cx="7561440" cy="1681200"/>
        </p:xfrm>
        <a:graphic>
          <a:graphicData uri="http://schemas.openxmlformats.org/drawingml/2006/table">
            <a:tbl>
              <a:tblPr/>
              <a:tblGrid>
                <a:gridCol w="2922480"/>
                <a:gridCol w="4638960"/>
              </a:tblGrid>
              <a:tr h="3661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цінка ступеня досягнення мети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2320">
                <a:tc>
                  <a:txBody>
                    <a:bodyPr anchor="t">
                      <a:noAutofit/>
                    </a:bodyPr>
                    <a:p>
                      <a:pPr marL="276120" indent="-276120">
                        <a:lnSpc>
                          <a:spcPct val="115000"/>
                        </a:lnSpc>
                        <a:spcBef>
                          <a:spcPts val="901"/>
                        </a:spcBef>
                        <a:buClr>
                          <a:srgbClr val="c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езультати вище, ніж очікувалис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6120" indent="-276120">
                        <a:lnSpc>
                          <a:spcPct val="11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Wingdings 2"/>
                          <a:ea typeface="Wingdings 2"/>
                        </a:rPr>
                        <a:t>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езультати нижче, ніж очікувалис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62760">
                <a:tc>
                  <a:txBody>
                    <a:bodyPr anchor="t">
                      <a:noAutofit/>
                    </a:bodyPr>
                    <a:p>
                      <a:pPr marL="276120" indent="-276120">
                        <a:lnSpc>
                          <a:spcPct val="11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Wingdings 2"/>
                          <a:ea typeface="Wingdings 2"/>
                        </a:rPr>
                        <a:t>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езультати відповідають поставленій мет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6120" indent="-276120">
                        <a:lnSpc>
                          <a:spcPct val="11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Wingdings 2"/>
                          <a:ea typeface="Wingdings 2"/>
                        </a:rPr>
                        <a:t>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Ціль не досягнута </a:t>
                      </a:r>
                      <a:r>
                        <a:rPr b="0" i="1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(при показниках менше 50% від запланованих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p:transition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Округлений прямокутник 12"/>
          <p:cNvGrpSpPr/>
          <p:nvPr/>
        </p:nvGrpSpPr>
        <p:grpSpPr>
          <a:xfrm>
            <a:off x="1249200" y="1017720"/>
            <a:ext cx="7894800" cy="1171440"/>
            <a:chOff x="1249200" y="1017720"/>
            <a:chExt cx="7894800" cy="1171440"/>
          </a:xfrm>
        </p:grpSpPr>
        <p:pic>
          <p:nvPicPr>
            <p:cNvPr id="148" name="Округлений прямокутник 12" descr=""/>
            <p:cNvPicPr/>
            <p:nvPr/>
          </p:nvPicPr>
          <p:blipFill>
            <a:blip r:embed="rId1"/>
            <a:stretch/>
          </p:blipFill>
          <p:spPr>
            <a:xfrm>
              <a:off x="1249200" y="1017720"/>
              <a:ext cx="7894800" cy="11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1440000" y="1211400"/>
              <a:ext cx="7457760" cy="69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III. </a:t>
              </a:r>
              <a:r>
                <a:rPr b="1" lang="uk-UA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ОСНОВНІ ЗАВДАННЯ ТА РЕЗУЛЬТАТИ РОБОТИ ЗА ЗВІТНИЙ ПЕРІО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50" name=""/>
          <p:cNvGraphicFramePr/>
          <p:nvPr/>
        </p:nvGraphicFramePr>
        <p:xfrm>
          <a:off x="1352520" y="2060640"/>
          <a:ext cx="7561440" cy="2955960"/>
        </p:xfrm>
        <a:graphic>
          <a:graphicData uri="http://schemas.openxmlformats.org/drawingml/2006/table">
            <a:tbl>
              <a:tblPr/>
              <a:tblGrid>
                <a:gridCol w="2664000"/>
                <a:gridCol w="3313080"/>
                <a:gridCol w="158436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вданн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езульта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ичини невиконанн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31552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Проведення енергоаудиті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Проведення на базі Ресурсного Центру підтримки ОСББ м. Вінниці тренінгів та семінарів для ініціативних груп та старших по будинках щодо переваг та порядку створення ОСББ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50 енергоаудитів та  сформовано 20 бізнес-планів для будинків, де створенні ОСББ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9 навчальних тренінгів та семінарів загальною чисельністю 180 осіб (84 чол., які отримали відповідні сертифікати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1352520" y="4941720"/>
          <a:ext cx="7561440" cy="1698840"/>
        </p:xfrm>
        <a:graphic>
          <a:graphicData uri="http://schemas.openxmlformats.org/drawingml/2006/table">
            <a:tbl>
              <a:tblPr/>
              <a:tblGrid>
                <a:gridCol w="2922480"/>
                <a:gridCol w="4638960"/>
              </a:tblGrid>
              <a:tr h="38268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цінка ступеня досягнення мети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2680">
                <a:tc>
                  <a:txBody>
                    <a:bodyPr anchor="t">
                      <a:noAutofit/>
                    </a:bodyPr>
                    <a:p>
                      <a:pPr marL="276120" indent="-276120">
                        <a:lnSpc>
                          <a:spcPct val="11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Wingdings 2"/>
                          <a:ea typeface="Wingdings 2"/>
                        </a:rPr>
                        <a:t>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езультати вище, ніж очікувалис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6120" indent="-276120">
                        <a:lnSpc>
                          <a:spcPct val="11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Wingdings 2"/>
                          <a:ea typeface="Wingdings 2"/>
                        </a:rPr>
                        <a:t>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езультати нижче, ніж очікувалис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63480">
                <a:tc>
                  <a:txBody>
                    <a:bodyPr anchor="t">
                      <a:noAutofit/>
                    </a:bodyPr>
                    <a:p>
                      <a:pPr marL="276120" indent="-276120">
                        <a:lnSpc>
                          <a:spcPct val="115000"/>
                        </a:lnSpc>
                        <a:spcBef>
                          <a:spcPts val="901"/>
                        </a:spcBef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езультати відповідають поставленій мет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6120" indent="-276120">
                        <a:lnSpc>
                          <a:spcPct val="11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Wingdings 2"/>
                          <a:ea typeface="Wingdings 2"/>
                        </a:rPr>
                        <a:t>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Ціль не досягнута </a:t>
                      </a:r>
                      <a:r>
                        <a:rPr b="0" i="1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(при показниках менше 50% від запланованих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p:transition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Округлений прямокутник 12"/>
          <p:cNvGrpSpPr/>
          <p:nvPr/>
        </p:nvGrpSpPr>
        <p:grpSpPr>
          <a:xfrm>
            <a:off x="1249200" y="1017720"/>
            <a:ext cx="7894800" cy="1171440"/>
            <a:chOff x="1249200" y="1017720"/>
            <a:chExt cx="7894800" cy="1171440"/>
          </a:xfrm>
        </p:grpSpPr>
        <p:pic>
          <p:nvPicPr>
            <p:cNvPr id="153" name="Округлений прямокутник 12" descr=""/>
            <p:cNvPicPr/>
            <p:nvPr/>
          </p:nvPicPr>
          <p:blipFill>
            <a:blip r:embed="rId1"/>
            <a:stretch/>
          </p:blipFill>
          <p:spPr>
            <a:xfrm>
              <a:off x="1249200" y="1017720"/>
              <a:ext cx="7894800" cy="11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1440000" y="1211400"/>
              <a:ext cx="7457760" cy="69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III. </a:t>
              </a:r>
              <a:r>
                <a:rPr b="1" lang="uk-UA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ОСНОВНІ ЗАВДАННЯ ТА РЕЗУЛЬТАТИ РОБОТИ ЗА ЗВІТНИЙ ПЕРІО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55" name=""/>
          <p:cNvGraphicFramePr/>
          <p:nvPr/>
        </p:nvGraphicFramePr>
        <p:xfrm>
          <a:off x="1352520" y="2060640"/>
          <a:ext cx="7561440" cy="2712960"/>
        </p:xfrm>
        <a:graphic>
          <a:graphicData uri="http://schemas.openxmlformats.org/drawingml/2006/table">
            <a:tbl>
              <a:tblPr/>
              <a:tblGrid>
                <a:gridCol w="2087640"/>
                <a:gridCol w="4033800"/>
                <a:gridCol w="1440000"/>
              </a:tblGrid>
              <a:tr h="578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вданн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езульта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ичини невиконанн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55780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Залучення до роботи в Ресурсному Центрі підтримки ОСББ м. Вінниці представників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давачів житлово-комунальних послуг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 Розроблення та виготовлення збірника кращих практиків  ОСББ   м. Вінниці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деться  прийом ініціативних груп мешканців та представників діючих ОСББ міста представниками ПП«Вінницяоблводоканал» і Вінницькі МЕ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зроблено та надруковано методичний посібник  загальним тиражем 300 примірникі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1352520" y="5084640"/>
          <a:ext cx="7561440" cy="1681200"/>
        </p:xfrm>
        <a:graphic>
          <a:graphicData uri="http://schemas.openxmlformats.org/drawingml/2006/table">
            <a:tbl>
              <a:tblPr/>
              <a:tblGrid>
                <a:gridCol w="2922480"/>
                <a:gridCol w="4638960"/>
              </a:tblGrid>
              <a:tr h="3661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цінка ступеня досягнення мети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2320">
                <a:tc>
                  <a:txBody>
                    <a:bodyPr anchor="t">
                      <a:noAutofit/>
                    </a:bodyPr>
                    <a:p>
                      <a:pPr marL="276120" indent="-276120">
                        <a:lnSpc>
                          <a:spcPct val="11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Wingdings 2"/>
                          <a:ea typeface="Wingdings 2"/>
                        </a:rPr>
                        <a:t>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езультати вище, ніж очікувалис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6120" indent="-276120">
                        <a:lnSpc>
                          <a:spcPct val="11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Wingdings 2"/>
                          <a:ea typeface="Wingdings 2"/>
                        </a:rPr>
                        <a:t>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езультати нижче, ніж очікувалис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62760">
                <a:tc>
                  <a:txBody>
                    <a:bodyPr anchor="t">
                      <a:noAutofit/>
                    </a:bodyPr>
                    <a:p>
                      <a:pPr marL="276120" indent="-276120">
                        <a:lnSpc>
                          <a:spcPct val="115000"/>
                        </a:lnSpc>
                        <a:spcBef>
                          <a:spcPts val="901"/>
                        </a:spcBef>
                        <a:buClr>
                          <a:srgbClr val="c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езультати відповідають поставленій мет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6120" indent="-276120">
                        <a:lnSpc>
                          <a:spcPct val="11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Wingdings 2"/>
                          <a:ea typeface="Wingdings 2"/>
                        </a:rPr>
                        <a:t>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Ціль не досягнута </a:t>
                      </a:r>
                      <a:r>
                        <a:rPr b="0" i="1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(при показниках менше 50% від запланованих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p:transition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Округлений прямокутник 12"/>
          <p:cNvGrpSpPr/>
          <p:nvPr/>
        </p:nvGrpSpPr>
        <p:grpSpPr>
          <a:xfrm>
            <a:off x="1249200" y="1017720"/>
            <a:ext cx="7894800" cy="1171440"/>
            <a:chOff x="1249200" y="1017720"/>
            <a:chExt cx="7894800" cy="1171440"/>
          </a:xfrm>
        </p:grpSpPr>
        <p:pic>
          <p:nvPicPr>
            <p:cNvPr id="158" name="Округлений прямокутник 12" descr=""/>
            <p:cNvPicPr/>
            <p:nvPr/>
          </p:nvPicPr>
          <p:blipFill>
            <a:blip r:embed="rId1"/>
            <a:stretch/>
          </p:blipFill>
          <p:spPr>
            <a:xfrm>
              <a:off x="1249200" y="1017720"/>
              <a:ext cx="7894800" cy="11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440000" y="1211400"/>
              <a:ext cx="7457760" cy="69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III. </a:t>
              </a:r>
              <a:r>
                <a:rPr b="1" lang="uk-UA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ОСНОВНІ ЗАВДАННЯ ТА РЕЗУЛЬТАТИ РОБОТИ ЗА ЗВІТНИЙ ПЕРІО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60" name=""/>
          <p:cNvGraphicFramePr/>
          <p:nvPr/>
        </p:nvGraphicFramePr>
        <p:xfrm>
          <a:off x="1352520" y="2060640"/>
          <a:ext cx="7561440" cy="3078000"/>
        </p:xfrm>
        <a:graphic>
          <a:graphicData uri="http://schemas.openxmlformats.org/drawingml/2006/table">
            <a:tbl>
              <a:tblPr/>
              <a:tblGrid>
                <a:gridCol w="1655640"/>
                <a:gridCol w="4465800"/>
                <a:gridCol w="1440000"/>
              </a:tblGrid>
              <a:tr h="51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вданн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езульта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ичини невиконанн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55996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Участь у розробленні  АСУ ЖКГ  та подальше впровадження на підприємствах  міс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 Приєднання до департаменту відділу з обліку та розподілу житл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 базі МКП ЖЕК-12  введено в дослідну експлуатацію підсистему «Облік об’єктів ЖКГ та моніторинг їх стану», «Паспортний стіл та облік особових рахунків мешканців», «Управління закупками. Складський облік. Розрахунки з постачальниками»,  «Управління персоналом та розрахунок заробітної плати»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 7.06.2012р. приєднано та забезпечено організацію роботи відділ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1352520" y="5208480"/>
          <a:ext cx="7561440" cy="1681200"/>
        </p:xfrm>
        <a:graphic>
          <a:graphicData uri="http://schemas.openxmlformats.org/drawingml/2006/table">
            <a:tbl>
              <a:tblPr/>
              <a:tblGrid>
                <a:gridCol w="2922480"/>
                <a:gridCol w="4638960"/>
              </a:tblGrid>
              <a:tr h="3661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цінка ступеня досягнення мети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2320">
                <a:tc>
                  <a:txBody>
                    <a:bodyPr anchor="t">
                      <a:noAutofit/>
                    </a:bodyPr>
                    <a:p>
                      <a:pPr marL="276120" indent="-276120">
                        <a:lnSpc>
                          <a:spcPct val="11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Wingdings 2"/>
                          <a:ea typeface="Wingdings 2"/>
                        </a:rPr>
                        <a:t>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езультати вище, ніж очікувалис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6120" indent="-276120">
                        <a:lnSpc>
                          <a:spcPct val="11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Wingdings 2"/>
                          <a:ea typeface="Wingdings 2"/>
                        </a:rPr>
                        <a:t>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езультати нижче, ніж очікувалис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62760">
                <a:tc>
                  <a:txBody>
                    <a:bodyPr anchor="t">
                      <a:noAutofit/>
                    </a:bodyPr>
                    <a:p>
                      <a:pPr marL="276120" indent="-276120">
                        <a:lnSpc>
                          <a:spcPct val="115000"/>
                        </a:lnSpc>
                        <a:spcBef>
                          <a:spcPts val="901"/>
                        </a:spcBef>
                        <a:buClr>
                          <a:srgbClr val="c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езультати відповідають поставленій мет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6120" indent="-276120">
                        <a:lnSpc>
                          <a:spcPct val="11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Wingdings 2"/>
                          <a:ea typeface="Wingdings 2"/>
                        </a:rPr>
                        <a:t>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Ціль не досягнута </a:t>
                      </a:r>
                      <a:r>
                        <a:rPr b="0" i="1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(при показниках менше 50% від запланованих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p:transition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Округлений прямокутник 12"/>
          <p:cNvGrpSpPr/>
          <p:nvPr/>
        </p:nvGrpSpPr>
        <p:grpSpPr>
          <a:xfrm>
            <a:off x="1249200" y="1017720"/>
            <a:ext cx="7894800" cy="1171440"/>
            <a:chOff x="1249200" y="1017720"/>
            <a:chExt cx="7894800" cy="1171440"/>
          </a:xfrm>
        </p:grpSpPr>
        <p:pic>
          <p:nvPicPr>
            <p:cNvPr id="163" name="Округлений прямокутник 12" descr=""/>
            <p:cNvPicPr/>
            <p:nvPr/>
          </p:nvPicPr>
          <p:blipFill>
            <a:blip r:embed="rId1"/>
            <a:stretch/>
          </p:blipFill>
          <p:spPr>
            <a:xfrm>
              <a:off x="1249200" y="1017720"/>
              <a:ext cx="7894800" cy="11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1440000" y="1211400"/>
              <a:ext cx="7457760" cy="69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III. </a:t>
              </a:r>
              <a:r>
                <a:rPr b="1" lang="uk-UA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ОСНОВНІ ЗАВДАННЯ ТА РЕЗУЛЬТАТИ РОБОТИ ЗА ЗВІТНИЙ ПЕРІО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65" name=""/>
          <p:cNvGraphicFramePr/>
          <p:nvPr/>
        </p:nvGraphicFramePr>
        <p:xfrm>
          <a:off x="1352520" y="2060640"/>
          <a:ext cx="7561440" cy="3017880"/>
        </p:xfrm>
        <a:graphic>
          <a:graphicData uri="http://schemas.openxmlformats.org/drawingml/2006/table">
            <a:tbl>
              <a:tblPr/>
              <a:tblGrid>
                <a:gridCol w="2521080"/>
                <a:gridCol w="3600360"/>
                <a:gridCol w="144000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вданн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езульта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ичини невиконанн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43864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 Розроблення проекту «Порядок  з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ов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ння старшим по будинку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уг з утримання будинк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та прибудинков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ї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иторі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ї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  Розроблення пілотного проекту «Енергоефективний будинок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зроблено “Порядок” та залучено до співпраці 52 старших по будинк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ішенням міської ради № 897 від 31.08.2012р  затверджена Програма стимулювання впровадження енергозберігаючих заходів у будинках ОСББ «Енергоефективний будинок. Крок за кроком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1352520" y="5013360"/>
          <a:ext cx="7561440" cy="1681200"/>
        </p:xfrm>
        <a:graphic>
          <a:graphicData uri="http://schemas.openxmlformats.org/drawingml/2006/table">
            <a:tbl>
              <a:tblPr/>
              <a:tblGrid>
                <a:gridCol w="2922480"/>
                <a:gridCol w="4638960"/>
              </a:tblGrid>
              <a:tr h="3661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цінка ступеня досягнення мети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2320">
                <a:tc>
                  <a:txBody>
                    <a:bodyPr anchor="t">
                      <a:noAutofit/>
                    </a:bodyPr>
                    <a:p>
                      <a:pPr marL="276120" indent="-276120">
                        <a:lnSpc>
                          <a:spcPct val="11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Wingdings 2"/>
                          <a:ea typeface="Wingdings 2"/>
                        </a:rPr>
                        <a:t>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езультати вище, ніж очікувалис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6120" indent="-276120">
                        <a:lnSpc>
                          <a:spcPct val="11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Wingdings 2"/>
                          <a:ea typeface="Wingdings 2"/>
                        </a:rPr>
                        <a:t>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езультати нижче, ніж очікувалис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62760">
                <a:tc>
                  <a:txBody>
                    <a:bodyPr anchor="t">
                      <a:noAutofit/>
                    </a:bodyPr>
                    <a:p>
                      <a:pPr marL="276120" indent="-276120">
                        <a:lnSpc>
                          <a:spcPct val="115000"/>
                        </a:lnSpc>
                        <a:spcBef>
                          <a:spcPts val="901"/>
                        </a:spcBef>
                        <a:buClr>
                          <a:srgbClr val="c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езультати відповідають поставленій мет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6120" indent="-276120">
                        <a:lnSpc>
                          <a:spcPct val="11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Wingdings 2"/>
                          <a:ea typeface="Wingdings 2"/>
                        </a:rPr>
                        <a:t>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Ціль не досягнута </a:t>
                      </a:r>
                      <a:r>
                        <a:rPr b="0" i="1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(при показниках менше 50% від запланованих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p:transition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Округлений прямокутник 12"/>
          <p:cNvGrpSpPr/>
          <p:nvPr/>
        </p:nvGrpSpPr>
        <p:grpSpPr>
          <a:xfrm>
            <a:off x="1249200" y="1017720"/>
            <a:ext cx="7894800" cy="1171440"/>
            <a:chOff x="1249200" y="1017720"/>
            <a:chExt cx="7894800" cy="1171440"/>
          </a:xfrm>
        </p:grpSpPr>
        <p:pic>
          <p:nvPicPr>
            <p:cNvPr id="168" name="Округлений прямокутник 12" descr=""/>
            <p:cNvPicPr/>
            <p:nvPr/>
          </p:nvPicPr>
          <p:blipFill>
            <a:blip r:embed="rId1"/>
            <a:stretch/>
          </p:blipFill>
          <p:spPr>
            <a:xfrm>
              <a:off x="1249200" y="1017720"/>
              <a:ext cx="7894800" cy="11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1440000" y="1211400"/>
              <a:ext cx="7457760" cy="69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III. </a:t>
              </a:r>
              <a:r>
                <a:rPr b="1" lang="uk-UA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ОСНОВНІ ЗАВДАННЯ ТА РЕЗУЛЬТАТИ РОБОТИ ЗА ЗВІТНИЙ ПЕРІО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70" name=""/>
          <p:cNvGraphicFramePr/>
          <p:nvPr/>
        </p:nvGraphicFramePr>
        <p:xfrm>
          <a:off x="1424160" y="1989000"/>
          <a:ext cx="7561080" cy="2808360"/>
        </p:xfrm>
        <a:graphic>
          <a:graphicData uri="http://schemas.openxmlformats.org/drawingml/2006/table">
            <a:tbl>
              <a:tblPr/>
              <a:tblGrid>
                <a:gridCol w="2376360"/>
                <a:gridCol w="3529080"/>
                <a:gridCol w="1655640"/>
              </a:tblGrid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вданн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езульта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ичини невиконанн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18268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о галузі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 startAt="1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ідвищенн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ліфікаційного рівн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цівників ЖЕП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 Обрати старших по будинка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а перевірка знань ІТП в 8-ми житлово-експлуатаційних підприємст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но 193 старших по будинка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1424160" y="4869000"/>
          <a:ext cx="7561080" cy="1681200"/>
        </p:xfrm>
        <a:graphic>
          <a:graphicData uri="http://schemas.openxmlformats.org/drawingml/2006/table">
            <a:tbl>
              <a:tblPr/>
              <a:tblGrid>
                <a:gridCol w="2922480"/>
                <a:gridCol w="4638600"/>
              </a:tblGrid>
              <a:tr h="3661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цінка ступеня досягнення мети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1960">
                <a:tc>
                  <a:txBody>
                    <a:bodyPr anchor="t">
                      <a:noAutofit/>
                    </a:bodyPr>
                    <a:p>
                      <a:pPr marL="276120" indent="-276120">
                        <a:lnSpc>
                          <a:spcPct val="115000"/>
                        </a:lnSpc>
                        <a:spcBef>
                          <a:spcPts val="901"/>
                        </a:spcBef>
                        <a:buClr>
                          <a:srgbClr val="c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езультати вище, ніж очікувалис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6120" indent="-276120">
                        <a:lnSpc>
                          <a:spcPct val="11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Wingdings 2"/>
                          <a:ea typeface="Wingdings 2"/>
                        </a:rPr>
                        <a:t>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езультати нижче, ніж очікувалис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63120">
                <a:tc>
                  <a:txBody>
                    <a:bodyPr anchor="t">
                      <a:noAutofit/>
                    </a:bodyPr>
                    <a:p>
                      <a:pPr marL="276120" indent="-276120">
                        <a:lnSpc>
                          <a:spcPct val="11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Wingdings 2"/>
                          <a:ea typeface="Wingdings 2"/>
                        </a:rPr>
                        <a:t>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езультати відповідають поставленій мет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6120" indent="-276120">
                        <a:lnSpc>
                          <a:spcPct val="11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Wingdings 2"/>
                          <a:ea typeface="Wingdings 2"/>
                        </a:rPr>
                        <a:t>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Ціль не досягнута </a:t>
                      </a:r>
                      <a:r>
                        <a:rPr b="0" i="1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(при показниках менше 50% від запланованих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p:transition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4T13:45:13Z</dcterms:created>
  <dc:creator>Опалінський Віктор Вячеславович</dc:creator>
  <dc:description/>
  <dc:language>en-US</dc:language>
  <cp:lastModifiedBy>Хартник Марія Михайлівна</cp:lastModifiedBy>
  <dcterms:modified xsi:type="dcterms:W3CDTF">2020-06-30T12:45:22Z</dcterms:modified>
  <cp:revision>136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C6C0062F285736439123A16CF628A5B2</vt:lpwstr>
  </property>
  <property fmtid="{D5CDD505-2E9C-101B-9397-08002B2CF9AE}" pid="3" name="TemplateUrl">
    <vt:lpwstr/>
  </property>
  <property fmtid="{D5CDD505-2E9C-101B-9397-08002B2CF9AE}" pid="4" name="_SourceUrl">
    <vt:lpwstr/>
  </property>
  <property fmtid="{D5CDD505-2E9C-101B-9397-08002B2CF9AE}" pid="5" name="_dlc_DocIdItemGuid">
    <vt:lpwstr>179e483b-0a1f-47f0-b6d8-3aebeb274d4d</vt:lpwstr>
  </property>
  <property fmtid="{D5CDD505-2E9C-101B-9397-08002B2CF9AE}" pid="6" name="xd_ProgID">
    <vt:lpwstr/>
  </property>
  <property fmtid="{D5CDD505-2E9C-101B-9397-08002B2CF9AE}" pid="7" name="xd_Signature">
    <vt:bool>0</vt:bool>
  </property>
</Properties>
</file>