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907588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96960" y="739440"/>
            <a:ext cx="534816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68E6-49AA-4D59-B4E1-0C4A82C731A3}" type="slidenum">
              <a:rPr b="0" lang="uk-U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96960" y="739800"/>
            <a:ext cx="5348160" cy="3701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3160-89A4-47F4-8817-5009C1EDE5BC}" type="slidenum">
              <a:rPr b="0" lang="uk-UA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FB4-7D97-432C-9DD5-1E208301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405936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ECC-C653-4EB6-8FCC-47AF2153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A86-FACB-461E-949C-FA9891C6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7C7-BAC8-4B79-A3C8-BD6242F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B709-1A33-4223-84A6-A743319F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D80-EC15-4E30-B47A-D031B2D1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61E6-0917-447B-A9B5-FE288A6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C520-30F1-4C2D-ADD3-A43FEAAE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7794-53AD-4C8B-8B43-573896B4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AAB4-17B7-449A-A433-83CC8C58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4B5C-3F6A-444E-9533-1A57C5D0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FFD-E1F2-4654-BD73-D5394FA8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4D46-6495-4BAD-AAC6-7263A1CA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303E-AA86-4580-9153-70E73FA0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405936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05D9-7C14-404E-ADC9-4717BC0A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866F-DAD1-4A88-AF2C-BE5DEE34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059360"/>
            <a:ext cx="287064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91A3-50FE-4B3A-8555-3C2EB5A2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8A6-842D-49E4-AD92-0F5A6094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D5A-BF6F-4C50-B84A-8F5541E1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42D-DFA3-4A48-910F-2267182A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A09-0519-492A-AE78-5F14045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91A-D49C-4C0E-910D-F1D03F9B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405936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C44-F2C0-424E-9055-AD598E5F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59360"/>
            <a:ext cx="8915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5E8-C156-47EB-9653-32A182A0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4166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166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84920" y="641664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E904-4CB8-4CFE-ADC3-DBEDB0EEDF99}" type="slidenum">
              <a:rPr b="0" lang="uk-UA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4166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4166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84920" y="641664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031C-D2CC-4A9C-8427-C900381E37A0}" type="slidenum">
              <a:rPr b="0" lang="uk-UA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1136520" y="278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РТА ПРІОРИТЕТІВ І ЦІЛЕЙ ПРОФЕСІЙНОЇ ДІЯЛЬНОСТІ ПОСАДОВОЇ ОСОБИ ОМ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665600" y="1557360"/>
            <a:ext cx="4319640" cy="11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800000"/>
                </a:solidFill>
                <a:uFillTx/>
                <a:latin typeface="Times New Roman"/>
              </a:rPr>
              <a:t>Кушнір Сергій Іван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0000"/>
                </a:solidFill>
                <a:latin typeface="Times New Roman"/>
              </a:rPr>
              <a:t>(прізвище, ім’я, по батькові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800000"/>
                </a:solidFill>
                <a:uFillTx/>
                <a:latin typeface="Times New Roman"/>
              </a:rPr>
              <a:t>Директор департаменту житлового господар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800000"/>
                </a:solidFill>
                <a:latin typeface="Times New Roman"/>
              </a:rPr>
              <a:t>(посада</a:t>
            </a:r>
            <a:r>
              <a:rPr b="1" lang="uk-UA" sz="8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657600" y="5373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олодимир Кісті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305240" y="6165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нниця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7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1424160" y="2133720"/>
          <a:ext cx="7561080" cy="2801880"/>
        </p:xfrm>
        <a:graphic>
          <a:graphicData uri="http://schemas.openxmlformats.org/drawingml/2006/table">
            <a:tbl>
              <a:tblPr/>
              <a:tblGrid>
                <a:gridCol w="2376360"/>
                <a:gridCol w="3529080"/>
                <a:gridCol w="16556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226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штування прозорих офісів в Ж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Створити нові ОСБ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проваджено в роботу 2 прозорих офіси в приміщеннях МКП ЖЕК №5 та №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ворено 37 нових ОСББ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- відсутнє фінансув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- небажання  співвласників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352520" y="4653000"/>
          <a:ext cx="7561440" cy="1989000"/>
        </p:xfrm>
        <a:graphic>
          <a:graphicData uri="http://schemas.openxmlformats.org/drawingml/2006/table">
            <a:tbl>
              <a:tblPr/>
              <a:tblGrid>
                <a:gridCol w="2592360"/>
                <a:gridCol w="49690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8588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7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0" name=""/>
          <p:cNvGraphicFramePr/>
          <p:nvPr/>
        </p:nvGraphicFramePr>
        <p:xfrm>
          <a:off x="1424160" y="1989000"/>
          <a:ext cx="7561080" cy="3283200"/>
        </p:xfrm>
        <a:graphic>
          <a:graphicData uri="http://schemas.openxmlformats.org/drawingml/2006/table">
            <a:tbl>
              <a:tblPr/>
              <a:tblGrid>
                <a:gridCol w="2663640"/>
                <a:gridCol w="3457440"/>
                <a:gridCol w="144000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784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Створення маневрового фон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ращення технічного стану та підвищення енергоефективності  житлових будин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лежного рівня поточної експлуатації житлового фонду  у відповідності до вимог норматив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реконструкцію 2 нежитлових приміщень  по вул. Тарногродського,37 під маневровий фон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капітальний ремонт житлового фонду на суму 10189,9 тис. грн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о виконання плану поточного ремонту житлового фонду на 12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352520" y="5186520"/>
          <a:ext cx="7561440" cy="167004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8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1424160" y="1989000"/>
          <a:ext cx="7561080" cy="3283200"/>
        </p:xfrm>
        <a:graphic>
          <a:graphicData uri="http://schemas.openxmlformats.org/drawingml/2006/table">
            <a:tbl>
              <a:tblPr/>
              <a:tblGrid>
                <a:gridCol w="2663640"/>
                <a:gridCol w="3457440"/>
                <a:gridCol w="144000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6784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колектив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Підвищення рівня кваліфікації праців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керівник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 Підвищення кваліфік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ь в 6 семінарах та 1 виставці, які проходили в м. Києві та Львов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їздка до м. Кельце (Польща) по обміну досвід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352520" y="5186520"/>
          <a:ext cx="7561440" cy="167004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18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0" name=""/>
          <p:cNvGraphicFramePr/>
          <p:nvPr/>
        </p:nvGraphicFramePr>
        <p:xfrm>
          <a:off x="1281240" y="2060640"/>
          <a:ext cx="7632720" cy="4103640"/>
        </p:xfrm>
        <a:graphic>
          <a:graphicData uri="http://schemas.openxmlformats.org/drawingml/2006/table">
            <a:tbl>
              <a:tblPr/>
              <a:tblGrid>
                <a:gridCol w="2592360"/>
                <a:gridCol w="3114720"/>
                <a:gridCol w="192564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24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провадж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зованої систе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іння житлово 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альним господарств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Вінниці (програм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  ТОВ  «ЕнТехЕко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ення автоматизації бізнес –процесів  діяльності МКП  “ЖЕК-12”. Дослідна експлуатація програми (виявлення та доопрацювання недолікі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ня в промислову  експлуатацію  АСУ ЖКГ м. Вінниці   для МКП “ЖЕК-12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192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1281240" y="2060640"/>
          <a:ext cx="7632720" cy="4579920"/>
        </p:xfrm>
        <a:graphic>
          <a:graphicData uri="http://schemas.openxmlformats.org/drawingml/2006/table">
            <a:tbl>
              <a:tblPr/>
              <a:tblGrid>
                <a:gridCol w="2447640"/>
                <a:gridCol w="3024360"/>
                <a:gridCol w="216072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20040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ращ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ічного стану 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вищ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ергоефективност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лових будин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еж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вня поточно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ксплуат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лового фонду  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ості до вим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ня капіталь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монту  та реконструк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лового фонду  на суму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90 тис.грн.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с.гр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с.гр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90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с.гр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с.грн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00% виконання ЖЕП пла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поточного ремонту житлов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фонд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5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196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1281240" y="2060640"/>
          <a:ext cx="7632720" cy="4103640"/>
        </p:xfrm>
        <a:graphic>
          <a:graphicData uri="http://schemas.openxmlformats.org/drawingml/2006/table">
            <a:tbl>
              <a:tblPr/>
              <a:tblGrid>
                <a:gridCol w="2592360"/>
                <a:gridCol w="3114720"/>
                <a:gridCol w="192564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24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лаштування прозорих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ісів в Ж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ровадження в роботу  2 прозорих офісів в конторах ЖЕП: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лення проектно-кошторисної документ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робіт  по офісу ЖЕК № 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робіт  по офісу ЖЕК № 16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ня в експлуатацію прозорих офіс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200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2" name=""/>
          <p:cNvGraphicFramePr/>
          <p:nvPr/>
        </p:nvGraphicFramePr>
        <p:xfrm>
          <a:off x="1281240" y="2060640"/>
          <a:ext cx="7632720" cy="4792680"/>
        </p:xfrm>
        <a:graphic>
          <a:graphicData uri="http://schemas.openxmlformats.org/drawingml/2006/table">
            <a:tbl>
              <a:tblPr/>
              <a:tblGrid>
                <a:gridCol w="2158920"/>
                <a:gridCol w="3673440"/>
                <a:gridCol w="1800360"/>
              </a:tblGrid>
              <a:tr h="1379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1316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ворити нові ОСБ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40 нових ОСББ в місті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 об’єдн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9 об’єдн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1 об’єдн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 об’єдна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вження реалізації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чального курсу для  управител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ББ на базі Вінницьк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іонального технічного університе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 підготовка 100 управителів ОСББ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чо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чо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роз’яснювальної робо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одо доцільності укладання  40 ОСБ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орів з МКП “ОЦ ЖКГ” 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розрахунків за ЖКГ послу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204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1281240" y="2060640"/>
          <a:ext cx="7632720" cy="4103640"/>
        </p:xfrm>
        <a:graphic>
          <a:graphicData uri="http://schemas.openxmlformats.org/drawingml/2006/table">
            <a:tbl>
              <a:tblPr/>
              <a:tblGrid>
                <a:gridCol w="2376360"/>
                <a:gridCol w="3456000"/>
                <a:gridCol w="180036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24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порядкув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удинкових територі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ертифікування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ою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лаштування 5 місць для паркування автотранспорту на прибудинкових територі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ікувати за системою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дин із ЖЕ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Округлений прямокутник 12"/>
          <p:cNvGrpSpPr/>
          <p:nvPr/>
        </p:nvGrpSpPr>
        <p:grpSpPr>
          <a:xfrm>
            <a:off x="1176480" y="1017720"/>
            <a:ext cx="7967520" cy="1171440"/>
            <a:chOff x="1176480" y="1017720"/>
            <a:chExt cx="7967520" cy="1171440"/>
          </a:xfrm>
        </p:grpSpPr>
        <p:pic>
          <p:nvPicPr>
            <p:cNvPr id="20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176480" y="1017720"/>
              <a:ext cx="79675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368360" y="1211400"/>
              <a:ext cx="752940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НАСТУПНИЙ РІ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1281240" y="2060640"/>
          <a:ext cx="7632720" cy="4103640"/>
        </p:xfrm>
        <a:graphic>
          <a:graphicData uri="http://schemas.openxmlformats.org/drawingml/2006/table">
            <a:tbl>
              <a:tblPr/>
              <a:tblGrid>
                <a:gridCol w="2376360"/>
                <a:gridCol w="3456000"/>
                <a:gridCol w="1800360"/>
              </a:tblGrid>
              <a:tr h="13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тегічні цілі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ретні завдання по досягненню стратегічних цілей з    кількісними та якісними показниками, які планується досяг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241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Розвиток напрям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одо покращення робо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 обліку та розподіл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Впорядкування квартирних черг згідно наданих  громадянами документів та які не провели перереєстрацію особових спра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Продовження роботи по наповненню маневрового фонду міста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творення програмного продукту автоматизованої системи «Квартоблі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творення реєстру неприватизованого житла мі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-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Округлений прямокутник 12"/>
          <p:cNvGrpSpPr/>
          <p:nvPr/>
        </p:nvGrpSpPr>
        <p:grpSpPr>
          <a:xfrm>
            <a:off x="1249200" y="1017720"/>
            <a:ext cx="7967880" cy="1171440"/>
            <a:chOff x="1249200" y="1017720"/>
            <a:chExt cx="7967880" cy="1171440"/>
          </a:xfrm>
        </p:grpSpPr>
        <p:pic>
          <p:nvPicPr>
            <p:cNvPr id="212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440000" y="1211400"/>
              <a:ext cx="75308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ДОВГОСТРОКОВУ ПЕРСПЕКТИВ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424160" y="2205000"/>
          <a:ext cx="7489800" cy="4518000"/>
        </p:xfrm>
        <a:graphic>
          <a:graphicData uri="http://schemas.openxmlformats.org/drawingml/2006/table">
            <a:tbl>
              <a:tblPr/>
              <a:tblGrid>
                <a:gridCol w="2089080"/>
                <a:gridCol w="3600360"/>
                <a:gridCol w="1800360"/>
              </a:tblGrid>
              <a:tr h="106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 очікуваного показни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9184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провадження автоматизованої системи управління житлово-комунальним господарством м. Вінниці (програмний продукт ТОВ «ЕнТехЕко»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изація  бізнес процес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яльності  11 житлово –експлуатацій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 мі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1920">
                <a:tc gridSpan="3">
                  <a:txBody>
                    <a:bodyPr lIns="90000" rIns="900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озиції щодо розвитку галуз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1680">
                <a:tc gridSpan="3"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Округлений прямокутник 4" descr=""/>
          <p:cNvPicPr/>
          <p:nvPr/>
        </p:nvPicPr>
        <p:blipFill>
          <a:blip r:embed="rId1"/>
          <a:stretch/>
        </p:blipFill>
        <p:spPr>
          <a:xfrm>
            <a:off x="974880" y="2908440"/>
            <a:ext cx="7522920" cy="895320"/>
          </a:xfrm>
          <a:prstGeom prst="rect">
            <a:avLst/>
          </a:prstGeom>
          <a:ln w="0">
            <a:noFill/>
          </a:ln>
        </p:spPr>
      </p:pic>
      <p:grpSp>
        <p:nvGrpSpPr>
          <p:cNvPr id="94" name="Округлений прямокутник 12"/>
          <p:cNvGrpSpPr/>
          <p:nvPr/>
        </p:nvGrpSpPr>
        <p:grpSpPr>
          <a:xfrm>
            <a:off x="1249200" y="950760"/>
            <a:ext cx="7967880" cy="835200"/>
            <a:chOff x="1249200" y="950760"/>
            <a:chExt cx="7967880" cy="835200"/>
          </a:xfrm>
        </p:grpSpPr>
        <p:pic>
          <p:nvPicPr>
            <p:cNvPr id="95" name="Округлений прямокутник 12" descr=""/>
            <p:cNvPicPr/>
            <p:nvPr/>
          </p:nvPicPr>
          <p:blipFill>
            <a:blip r:embed="rId2"/>
            <a:stretch/>
          </p:blipFill>
          <p:spPr>
            <a:xfrm>
              <a:off x="1249200" y="950760"/>
              <a:ext cx="79678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433520" y="1133640"/>
              <a:ext cx="75423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</a:rPr>
                <a:t>І. НАЗВА ПІДРОЗДІЛ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Округлений прямокутник 12"/>
          <p:cNvGrpSpPr/>
          <p:nvPr/>
        </p:nvGrpSpPr>
        <p:grpSpPr>
          <a:xfrm>
            <a:off x="890640" y="5126040"/>
            <a:ext cx="7893000" cy="1098720"/>
            <a:chOff x="890640" y="5126040"/>
            <a:chExt cx="7893000" cy="1098720"/>
          </a:xfrm>
        </p:grpSpPr>
        <p:pic>
          <p:nvPicPr>
            <p:cNvPr id="98" name="Округлений прямокутник 12" descr=""/>
            <p:cNvPicPr/>
            <p:nvPr/>
          </p:nvPicPr>
          <p:blipFill>
            <a:blip r:embed="rId3"/>
            <a:stretch/>
          </p:blipFill>
          <p:spPr>
            <a:xfrm>
              <a:off x="890640" y="5126040"/>
              <a:ext cx="789300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077840" y="5315040"/>
              <a:ext cx="7461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300" spc="-1" strike="noStrike">
                  <a:solidFill>
                    <a:srgbClr val="c00000"/>
                  </a:solidFill>
                  <a:latin typeface="Times New Roman"/>
                </a:rPr>
                <a:t>ІІ. СТРУКТУРА ПІДРОЗДІЛУ В ГРАФІЧНОМУ  ВИГЛЯДІ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Округлений прямокутник 12"/>
          <p:cNvGrpSpPr/>
          <p:nvPr/>
        </p:nvGrpSpPr>
        <p:grpSpPr>
          <a:xfrm>
            <a:off x="1249200" y="1017720"/>
            <a:ext cx="7967880" cy="1171440"/>
            <a:chOff x="1249200" y="1017720"/>
            <a:chExt cx="7967880" cy="1171440"/>
          </a:xfrm>
        </p:grpSpPr>
        <p:pic>
          <p:nvPicPr>
            <p:cNvPr id="216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40000" y="1211400"/>
              <a:ext cx="75308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ДОВГОСТРОКОВУ ПЕРСПЕКТИВ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1424160" y="2205000"/>
          <a:ext cx="7488000" cy="4129200"/>
        </p:xfrm>
        <a:graphic>
          <a:graphicData uri="http://schemas.openxmlformats.org/drawingml/2006/table">
            <a:tbl>
              <a:tblPr/>
              <a:tblGrid>
                <a:gridCol w="2744640"/>
                <a:gridCol w="2697120"/>
                <a:gridCol w="2046240"/>
              </a:tblGrid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 очікуваного показни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704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окращення технічного стану та підвищення енергоефективності  житлових будин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ня капіталь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монту  та реконструк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лового фонду в меж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ілених бюджет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ч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31 грудня щорі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0360">
                <a:tc gridSpan="3">
                  <a:txBody>
                    <a:bodyPr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озиції щодо розвитку галуз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0320">
                <a:tc gridSpan="3"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Округлений прямокутник 12"/>
          <p:cNvGrpSpPr/>
          <p:nvPr/>
        </p:nvGrpSpPr>
        <p:grpSpPr>
          <a:xfrm>
            <a:off x="1249200" y="1017720"/>
            <a:ext cx="7967880" cy="1171440"/>
            <a:chOff x="1249200" y="1017720"/>
            <a:chExt cx="7967880" cy="1171440"/>
          </a:xfrm>
        </p:grpSpPr>
        <p:pic>
          <p:nvPicPr>
            <p:cNvPr id="220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440000" y="1211400"/>
              <a:ext cx="75308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ІОРИТЕТНІ НАПРЯМКИ РОБОТИ НА ДОВГОСТРОКОВУ ПЕРСПЕКТИВ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1424160" y="2205000"/>
          <a:ext cx="7489800" cy="4037040"/>
        </p:xfrm>
        <a:graphic>
          <a:graphicData uri="http://schemas.openxmlformats.org/drawingml/2006/table">
            <a:tbl>
              <a:tblPr/>
              <a:tblGrid>
                <a:gridCol w="2744640"/>
                <a:gridCol w="2698560"/>
                <a:gridCol w="204660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 очікуваного показник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66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Забезпечення належного рівня поточної експлуатації житлового фонду  у відповідності до вимог норматив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 виконання ЖЕП пла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очного ремонту житлов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31 грудня щорі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018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58560">
                <a:tc gridSpan="3">
                  <a:txBody>
                    <a:bodyPr lIns="90000" rIns="90000" anchor="t">
                      <a:noAutofit/>
                    </a:bodyPr>
                    <a:p>
                      <a:pPr marL="457200" indent="-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озиції щодо розвитку галуз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0320">
                <a:tc gridSpan="3"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Округлений прямокутник 12"/>
          <p:cNvGrpSpPr/>
          <p:nvPr/>
        </p:nvGrpSpPr>
        <p:grpSpPr>
          <a:xfrm>
            <a:off x="1249200" y="950760"/>
            <a:ext cx="7967880" cy="1127160"/>
            <a:chOff x="1249200" y="950760"/>
            <a:chExt cx="7967880" cy="1127160"/>
          </a:xfrm>
        </p:grpSpPr>
        <p:pic>
          <p:nvPicPr>
            <p:cNvPr id="224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950760"/>
              <a:ext cx="796788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440000" y="1139760"/>
              <a:ext cx="753084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US" sz="2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uk-UA" sz="2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ИЗНАЧЕННЯ ПРОБЛЕМНИХ ПИТАНЬ ПІДРОЗДІЛУ ТА НАДАННЯ ПРОПОЗИЦІЙ ЩОДО ЇХ ВИРІШЕНН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1424160" y="2060640"/>
          <a:ext cx="7488000" cy="4419360"/>
        </p:xfrm>
        <a:graphic>
          <a:graphicData uri="http://schemas.openxmlformats.org/drawingml/2006/table">
            <a:tbl>
              <a:tblPr/>
              <a:tblGrid>
                <a:gridCol w="2025360"/>
                <a:gridCol w="2511720"/>
                <a:gridCol w="2950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ні пит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виникнення проблемних пита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позиції щодо вирішення пит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0388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еналежни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ічний ст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ин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сутні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хових управител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лових комплекс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Недостат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ащені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уналь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ічними засобам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нє  фінансуванн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дсутні на державному рівні чіткі вимоги та стандарти до управителя житлового комплексу та навчальні програми по його підготовц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 коштів  для придбання  техні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виконання планів поточного та капітального ремонтів за дольовою участю мешканців та інших організаці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ня навчального курс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управителів ОСББ на баз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інницького Національ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ічного університе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ня  комунальни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ами  нової техніки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хунок коштів міського бюдже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оповнення статут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Округлений прямокутник 12"/>
          <p:cNvGrpSpPr/>
          <p:nvPr/>
        </p:nvGrpSpPr>
        <p:grpSpPr>
          <a:xfrm>
            <a:off x="1249200" y="950760"/>
            <a:ext cx="7894800" cy="1195560"/>
            <a:chOff x="1249200" y="950760"/>
            <a:chExt cx="7894800" cy="1195560"/>
          </a:xfrm>
        </p:grpSpPr>
        <p:pic>
          <p:nvPicPr>
            <p:cNvPr id="22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950760"/>
              <a:ext cx="78948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441440" y="1141560"/>
              <a:ext cx="745488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819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II. </a:t>
              </a:r>
              <a:r>
                <a:rPr b="1" lang="uk-UA" sz="2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ВДАННЯ, СПРЯМОВАНІ НА ПІДВИЩЕННЯ ЕФЕКТИВНОСТІ ДІЯЛЬНОСТІ КЕРІВНИ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0" name=""/>
          <p:cNvGraphicFramePr/>
          <p:nvPr/>
        </p:nvGraphicFramePr>
        <p:xfrm>
          <a:off x="1281240" y="2060640"/>
          <a:ext cx="7632720" cy="4541760"/>
        </p:xfrm>
        <a:graphic>
          <a:graphicData uri="http://schemas.openxmlformats.org/drawingml/2006/table">
            <a:tbl>
              <a:tblPr/>
              <a:tblGrid>
                <a:gridCol w="2808000"/>
                <a:gridCol w="3089520"/>
                <a:gridCol w="1735200"/>
              </a:tblGrid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8764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ідвищення кваліфік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Запровадження нової фор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имання жит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Розвиток комунальн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риємст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ь у 2-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оукраїнських семінар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ворення та забезпечення функціонування  підприємства – управителя житловим  фонд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більшення доходів від інш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ів діяльності не менше як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 10% 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33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ідно запро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352520" y="2133720"/>
          <a:ext cx="7561440" cy="4389480"/>
        </p:xfrm>
        <a:graphic>
          <a:graphicData uri="http://schemas.openxmlformats.org/drawingml/2006/table">
            <a:tbl>
              <a:tblPr/>
              <a:tblGrid>
                <a:gridCol w="2133720"/>
                <a:gridCol w="3267000"/>
                <a:gridCol w="216072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7836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лани роботи на 2013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ідвищення рів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іфікації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ів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офесій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вдосконал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івни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ь не менше 5  працівників 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оукраїнських семінарах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’їздах, виставках, не менше 2-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їздок у інші  міста України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міном досвіду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обгрунтованих скарг 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офісійні дії працівни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іч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ідно запро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Щокварталу станом 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 число місяця, щ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лідує за звітн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еріод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232" name="Округлений прямокутник 12"/>
          <p:cNvGrpSpPr/>
          <p:nvPr/>
        </p:nvGrpSpPr>
        <p:grpSpPr>
          <a:xfrm>
            <a:off x="1249200" y="1017720"/>
            <a:ext cx="7967880" cy="1201680"/>
            <a:chOff x="1249200" y="1017720"/>
            <a:chExt cx="7967880" cy="1201680"/>
          </a:xfrm>
        </p:grpSpPr>
        <p:pic>
          <p:nvPicPr>
            <p:cNvPr id="23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441440" y="1212840"/>
              <a:ext cx="75279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III. </a:t>
              </a:r>
              <a:r>
                <a:rPr b="1" lang="uk-UA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ВДАННЯ, СПРЯМОВАНІ НА ПІДВИЩЕННЯ ЕФЕКТИВНОСТІ ДІЯЛЬНОСТІ КОЛЕКТИВУ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352520" y="2133720"/>
          <a:ext cx="7561440" cy="3743280"/>
        </p:xfrm>
        <a:graphic>
          <a:graphicData uri="http://schemas.openxmlformats.org/drawingml/2006/table">
            <a:tbl>
              <a:tblPr/>
              <a:tblGrid>
                <a:gridCol w="2160720"/>
                <a:gridCol w="2952720"/>
                <a:gridCol w="244800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 на 2013 рі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ники досягнення мети ( яких конкретно кількісних і якісних показників планується досягти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інцевий термін досягнення показника (у розрізі 4-х квартал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9408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часний та якіс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гляд  зверн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омадя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имулюв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івників д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ої робо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Провед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ого дозвілл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утність порушення термін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гляду зверн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е преміювання 30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щих працівни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1 спартакіади,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отників, 1 подорож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Щокварталу станом на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исло місяця, що слідує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вітним період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Щомісячно станом 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5 число наступного 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звітним місяц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-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ІІ к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236" name="Округлений прямокутник 12"/>
          <p:cNvGrpSpPr/>
          <p:nvPr/>
        </p:nvGrpSpPr>
        <p:grpSpPr>
          <a:xfrm>
            <a:off x="1249200" y="1017720"/>
            <a:ext cx="7967880" cy="1201680"/>
            <a:chOff x="1249200" y="1017720"/>
            <a:chExt cx="7967880" cy="1201680"/>
          </a:xfrm>
        </p:grpSpPr>
        <p:pic>
          <p:nvPicPr>
            <p:cNvPr id="237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9678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441440" y="1212840"/>
              <a:ext cx="75279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VIII. </a:t>
              </a:r>
              <a:r>
                <a:rPr b="1" lang="uk-UA" sz="2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ВДАННЯ, СПРЯМОВАНІ НА ПІДВИЩЕННЯ ЕФЕКТИВНОСТІ ДІЯЛЬНОСТІ КОЛЕКТИВУ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47640" y="341280"/>
            <a:ext cx="79329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6025"/>
              </a:gs>
              <a:gs pos="50000">
                <a:srgbClr val="92d050"/>
              </a:gs>
              <a:gs pos="100000">
                <a:srgbClr val="4460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ff"/>
                </a:solidFill>
                <a:latin typeface="Arial"/>
              </a:rPr>
              <a:t>Директор Департамента житлового господарства Кушнір С.І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3081240" y="1052640"/>
            <a:ext cx="2808360" cy="1152360"/>
          </a:xfrm>
          <a:prstGeom prst="ellipse">
            <a:avLst/>
          </a:prstGeom>
          <a:gradFill rotWithShape="0">
            <a:gsLst>
              <a:gs pos="0">
                <a:srgbClr val="524b5c"/>
              </a:gs>
              <a:gs pos="50000">
                <a:srgbClr val="b2a1c7"/>
              </a:gs>
              <a:gs pos="100000">
                <a:srgbClr val="524b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тупник директора, начальник відділу з обліку та розподілу житла 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Фурман  Р.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0" y="2357280"/>
            <a:ext cx="1727280" cy="167004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Начальник відділу капітального ремонту та розвитку житлового господарства Ткачук С.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873080" y="2357280"/>
            <a:ext cx="1627200" cy="167004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Начальник відділу поточного утримання будинків та прибудинкових територій Гречанюк С.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496880" y="836640"/>
            <a:ext cx="108000" cy="385560"/>
          </a:xfrm>
          <a:prstGeom prst="downArrow">
            <a:avLst>
              <a:gd name="adj1" fmla="val 50000"/>
              <a:gd name="adj2" fmla="val 16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AutoShape 8"/>
          <p:cNvCxnSpPr>
            <a:stCxn id="106" idx="4"/>
          </p:cNvCxnSpPr>
          <p:nvPr/>
        </p:nvCxnSpPr>
        <p:spPr>
          <a:xfrm>
            <a:off x="1568520" y="2028600"/>
            <a:ext cx="79272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9"/>
          <p:cNvCxnSpPr>
            <a:stCxn id="106" idx="4"/>
            <a:endCxn id="102" idx="0"/>
          </p:cNvCxnSpPr>
          <p:nvPr/>
        </p:nvCxnSpPr>
        <p:spPr>
          <a:xfrm flipH="1">
            <a:off x="863640" y="2028960"/>
            <a:ext cx="7052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11"/>
          <p:cNvSpPr/>
          <p:nvPr/>
        </p:nvSpPr>
        <p:spPr>
          <a:xfrm>
            <a:off x="2163600" y="4230720"/>
            <a:ext cx="1285920" cy="647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Заступник начальника відділу Лисий В.І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200160" y="4221000"/>
            <a:ext cx="128592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50000">
                <a:srgbClr val="92cddc"/>
              </a:gs>
              <a:gs pos="100000">
                <a:srgbClr val="445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Капецька В.С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2" idx="4"/>
            <a:endCxn id="109" idx="0"/>
          </p:cNvCxnSpPr>
          <p:nvPr/>
        </p:nvCxnSpPr>
        <p:spPr>
          <a:xfrm flipH="1">
            <a:off x="842760" y="4027320"/>
            <a:ext cx="208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4"/>
          <p:cNvCxnSpPr>
            <a:endCxn id="108" idx="0"/>
          </p:cNvCxnSpPr>
          <p:nvPr/>
        </p:nvCxnSpPr>
        <p:spPr>
          <a:xfrm>
            <a:off x="2767680" y="4021200"/>
            <a:ext cx="3852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5"/>
          <p:cNvSpPr/>
          <p:nvPr/>
        </p:nvSpPr>
        <p:spPr>
          <a:xfrm>
            <a:off x="2141640" y="5165640"/>
            <a:ext cx="988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Коваль В.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863640" y="5165640"/>
            <a:ext cx="11095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Стоянова О.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3303720" y="5165640"/>
            <a:ext cx="1133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Лосєва Л.П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AutoShape 18"/>
          <p:cNvCxnSpPr/>
          <p:nvPr/>
        </p:nvCxnSpPr>
        <p:spPr>
          <a:xfrm>
            <a:off x="3368160" y="4869000"/>
            <a:ext cx="3834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AutoShape 19"/>
          <p:cNvCxnSpPr/>
          <p:nvPr/>
        </p:nvCxnSpPr>
        <p:spPr>
          <a:xfrm flipH="1">
            <a:off x="1569240" y="4878360"/>
            <a:ext cx="6642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AutoShape 20"/>
          <p:cNvCxnSpPr>
            <a:stCxn id="108" idx="2"/>
          </p:cNvCxnSpPr>
          <p:nvPr/>
        </p:nvCxnSpPr>
        <p:spPr>
          <a:xfrm flipH="1">
            <a:off x="2736720" y="4878000"/>
            <a:ext cx="7020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Oval 21"/>
          <p:cNvSpPr/>
          <p:nvPr/>
        </p:nvSpPr>
        <p:spPr>
          <a:xfrm>
            <a:off x="5262480" y="2421000"/>
            <a:ext cx="1627200" cy="165564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Calibri"/>
              </a:rPr>
              <a:t>Начальник відділу бухгалтерського обліку та фінансової звітності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Calibri"/>
              </a:rPr>
              <a:t>Ткач Н.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3529080" y="2430360"/>
            <a:ext cx="1627200" cy="166860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Calibri"/>
              </a:rPr>
              <a:t>Начальник відділу розвитку ОСББ Танасійчук В.П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AutoShape 23"/>
          <p:cNvCxnSpPr/>
          <p:nvPr/>
        </p:nvCxnSpPr>
        <p:spPr>
          <a:xfrm>
            <a:off x="4392360" y="40863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AutoShape 24"/>
          <p:cNvSpPr/>
          <p:nvPr/>
        </p:nvSpPr>
        <p:spPr>
          <a:xfrm>
            <a:off x="5384880" y="4365720"/>
            <a:ext cx="11682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Ткачук Н.П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AutoShape 25"/>
          <p:cNvCxnSpPr>
            <a:endCxn id="121" idx="0"/>
          </p:cNvCxnSpPr>
          <p:nvPr/>
        </p:nvCxnSpPr>
        <p:spPr>
          <a:xfrm flipH="1">
            <a:off x="5968800" y="4076280"/>
            <a:ext cx="64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AutoShape 26"/>
          <p:cNvSpPr/>
          <p:nvPr/>
        </p:nvSpPr>
        <p:spPr>
          <a:xfrm>
            <a:off x="3672000" y="4373640"/>
            <a:ext cx="1285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                   Габа П.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5889600" y="846000"/>
            <a:ext cx="306360" cy="1575000"/>
          </a:xfrm>
          <a:prstGeom prst="downArrow">
            <a:avLst>
              <a:gd name="adj1" fmla="val 50000"/>
              <a:gd name="adj2" fmla="val 1317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>
            <a:off x="7905600" y="844560"/>
            <a:ext cx="309600" cy="1647720"/>
          </a:xfrm>
          <a:prstGeom prst="downArrow">
            <a:avLst>
              <a:gd name="adj1" fmla="val 50000"/>
              <a:gd name="adj2" fmla="val 1285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7184880" y="2492280"/>
            <a:ext cx="1704960" cy="158436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74584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Начальник планово-економічного відділу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Осавелюк О.М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7" name="AutoShape 31"/>
          <p:cNvCxnSpPr/>
          <p:nvPr/>
        </p:nvCxnSpPr>
        <p:spPr>
          <a:xfrm>
            <a:off x="8408880" y="400500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AutoShape 32"/>
          <p:cNvSpPr/>
          <p:nvPr/>
        </p:nvSpPr>
        <p:spPr>
          <a:xfrm>
            <a:off x="6681960" y="4365720"/>
            <a:ext cx="1062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Риверчук Л.І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3"/>
          <p:cNvSpPr/>
          <p:nvPr/>
        </p:nvSpPr>
        <p:spPr>
          <a:xfrm>
            <a:off x="7905600" y="4365720"/>
            <a:ext cx="10670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50000">
                <a:srgbClr val="92cddc"/>
              </a:gs>
              <a:gs pos="100000">
                <a:srgbClr val="445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Матвієнко Т.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AutoShape 34"/>
          <p:cNvCxnSpPr/>
          <p:nvPr/>
        </p:nvCxnSpPr>
        <p:spPr>
          <a:xfrm flipH="1">
            <a:off x="7473600" y="3933720"/>
            <a:ext cx="216720" cy="42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AutoShape 11"/>
          <p:cNvSpPr/>
          <p:nvPr/>
        </p:nvSpPr>
        <p:spPr>
          <a:xfrm>
            <a:off x="4592520" y="5157720"/>
            <a:ext cx="1368720" cy="647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Заступник начальника відділу Завірюха І.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олілінія 143"/>
          <p:cNvSpPr/>
          <p:nvPr/>
        </p:nvSpPr>
        <p:spPr>
          <a:xfrm>
            <a:off x="4162320" y="16574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9887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27"/>
          <p:cNvSpPr/>
          <p:nvPr/>
        </p:nvSpPr>
        <p:spPr>
          <a:xfrm flipH="1">
            <a:off x="5168880" y="2133720"/>
            <a:ext cx="71280" cy="3024000"/>
          </a:xfrm>
          <a:prstGeom prst="downArrow">
            <a:avLst>
              <a:gd name="adj1" fmla="val 50000"/>
              <a:gd name="adj2" fmla="val 1926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4665600" y="6093000"/>
            <a:ext cx="1224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Плахотнюк З.П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2720880" y="6093000"/>
            <a:ext cx="11098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Стоянова Н.В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681960" y="6093000"/>
            <a:ext cx="11332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5f66"/>
              </a:gs>
              <a:gs pos="100000">
                <a:srgbClr val="92cd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Calibri"/>
              </a:rPr>
              <a:t>Головний спеціаліст Висоцький А.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25"/>
          <p:cNvCxnSpPr>
            <a:stCxn id="131" idx="2"/>
            <a:endCxn id="134" idx="0"/>
          </p:cNvCxnSpPr>
          <p:nvPr/>
        </p:nvCxnSpPr>
        <p:spPr>
          <a:xfrm>
            <a:off x="5276520" y="5805000"/>
            <a:ext cx="10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34"/>
          <p:cNvCxnSpPr>
            <a:stCxn id="131" idx="2"/>
            <a:endCxn id="135" idx="0"/>
          </p:cNvCxnSpPr>
          <p:nvPr/>
        </p:nvCxnSpPr>
        <p:spPr>
          <a:xfrm flipH="1">
            <a:off x="3274200" y="5805000"/>
            <a:ext cx="200268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34"/>
          <p:cNvCxnSpPr>
            <a:stCxn id="131" idx="2"/>
            <a:endCxn id="136" idx="0"/>
          </p:cNvCxnSpPr>
          <p:nvPr/>
        </p:nvCxnSpPr>
        <p:spPr>
          <a:xfrm>
            <a:off x="5276520" y="5805000"/>
            <a:ext cx="197244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Oval 3"/>
          <p:cNvSpPr/>
          <p:nvPr/>
        </p:nvSpPr>
        <p:spPr>
          <a:xfrm>
            <a:off x="704880" y="1197000"/>
            <a:ext cx="1727280" cy="831960"/>
          </a:xfrm>
          <a:prstGeom prst="ellipse">
            <a:avLst/>
          </a:prstGeom>
          <a:gradFill rotWithShape="0">
            <a:gsLst>
              <a:gs pos="0">
                <a:srgbClr val="524b5c"/>
              </a:gs>
              <a:gs pos="50000">
                <a:srgbClr val="b2a1c7"/>
              </a:gs>
              <a:gs pos="100000">
                <a:srgbClr val="524b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ступник директо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4376880" y="2205000"/>
            <a:ext cx="71280" cy="216000"/>
          </a:xfrm>
          <a:prstGeom prst="downArrow">
            <a:avLst>
              <a:gd name="adj1" fmla="val 50000"/>
              <a:gd name="adj2" fmla="val 192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376880" y="836640"/>
            <a:ext cx="71280" cy="216000"/>
          </a:xfrm>
          <a:prstGeom prst="downArrow">
            <a:avLst>
              <a:gd name="adj1" fmla="val 50000"/>
              <a:gd name="adj2" fmla="val 1713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4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1352520" y="2060640"/>
          <a:ext cx="7561440" cy="2987640"/>
        </p:xfrm>
        <a:graphic>
          <a:graphicData uri="http://schemas.openxmlformats.org/drawingml/2006/table">
            <a:tbl>
              <a:tblPr/>
              <a:tblGrid>
                <a:gridCol w="2664000"/>
                <a:gridCol w="3313080"/>
                <a:gridCol w="1584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3472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Фортифікування  ремонтної бази ВМКП “Вінницяміськліфт”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порядкуванн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будинкових територі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одовження реалізації навчального курсу для управителів ОСББ на базі Вінницького Національного технічного університету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ворено цех  з виготовлення  комплектуючих для модернізації та ремонту ліфт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конано поточний ремонт  30,6 тис.кв.м асфальтобетонного покриття прибудинкових територі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готовлено 100 управителів ОСБ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52520" y="5084640"/>
          <a:ext cx="756144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27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4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1352520" y="2060640"/>
          <a:ext cx="7561440" cy="2955960"/>
        </p:xfrm>
        <a:graphic>
          <a:graphicData uri="http://schemas.openxmlformats.org/drawingml/2006/table">
            <a:tbl>
              <a:tblPr/>
              <a:tblGrid>
                <a:gridCol w="2664000"/>
                <a:gridCol w="3313080"/>
                <a:gridCol w="1584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3155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роведення енергоаудит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роведення на базі Ресурсного Центру підтримки ОСББ м. Вінниці тренінгів та семінарів для ініціативних груп та старших по будинках щодо переваг та порядку створення ОСБ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50 енергоаудитів та  сформовано 20 бізнес-планів для будинків, де створенні ОСБ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9 навчальних тренінгів та семінарів загальною чисельністю 180 осіб (84 чол., які отримали відповідні сертифіка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352520" y="4941720"/>
          <a:ext cx="7561440" cy="169884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8268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68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5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1352520" y="2060640"/>
          <a:ext cx="7561440" cy="2712960"/>
        </p:xfrm>
        <a:graphic>
          <a:graphicData uri="http://schemas.openxmlformats.org/drawingml/2006/table">
            <a:tbl>
              <a:tblPr/>
              <a:tblGrid>
                <a:gridCol w="2087640"/>
                <a:gridCol w="4033800"/>
                <a:gridCol w="144000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578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Залучення до роботи в Ресурсному Центрі підтримки ОСББ м. Вінниці представник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авачів житлово-комунальних послу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 Розроблення та виготовлення збірника кращих практиків  ОСББ   м. Вінниці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деться  прийом ініціативних груп мешканців та представників діючих ОСББ міста представниками ПП«Вінницяоблводоканал» і Вінницькі М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лено та надруковано методичний посібник  загальним тиражем 300 примірник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352520" y="5084640"/>
          <a:ext cx="756144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27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5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1352520" y="2060640"/>
          <a:ext cx="7561440" cy="3078000"/>
        </p:xfrm>
        <a:graphic>
          <a:graphicData uri="http://schemas.openxmlformats.org/drawingml/2006/table">
            <a:tbl>
              <a:tblPr/>
              <a:tblGrid>
                <a:gridCol w="1655640"/>
                <a:gridCol w="4465800"/>
                <a:gridCol w="144000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599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Участь у розробленні  АСУ ЖКГ  та подальше впровадження на підприємствах  міс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Приєднання до департаменту відділу з обліку та розподілу жит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базі МКП ЖЕК-12  введено в дослідну експлуатацію підсистему «Облік об’єктів ЖКГ та моніторинг їх стану», «Паспортний стіл та облік особових рахунків мешканців», «Управління закупками. Складський облік. Розрахунки з постачальниками»,  «Управління персоналом та розрахунок заробітної плати»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 7.06.2012р. приєднано та забезпечено організацію роботи відділ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352520" y="5208480"/>
          <a:ext cx="756144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27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63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5" name=""/>
          <p:cNvGraphicFramePr/>
          <p:nvPr/>
        </p:nvGraphicFramePr>
        <p:xfrm>
          <a:off x="1352520" y="2060640"/>
          <a:ext cx="7561440" cy="3017880"/>
        </p:xfrm>
        <a:graphic>
          <a:graphicData uri="http://schemas.openxmlformats.org/drawingml/2006/table">
            <a:tbl>
              <a:tblPr/>
              <a:tblGrid>
                <a:gridCol w="2521080"/>
                <a:gridCol w="3600360"/>
                <a:gridCol w="14400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386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Розроблення проекту «Порядок  з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ов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ня старшим по будинку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уг з утримання будинк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а прибудинков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ї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иторі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ї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 Розроблення пілотного проекту «Енергоефективний будино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лено “Порядок” та залучено до співпраці 52 старших по будин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ішенням міської ради № 897 від 31.08.2012р  затверджена Програма стимулювання впровадження енергозберігаючих заходів у будинках ОСББ «Енергоефективний будинок. Крок за крок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352520" y="5013360"/>
          <a:ext cx="756144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9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27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Округлений прямокутник 12"/>
          <p:cNvGrpSpPr/>
          <p:nvPr/>
        </p:nvGrpSpPr>
        <p:grpSpPr>
          <a:xfrm>
            <a:off x="1249200" y="1017720"/>
            <a:ext cx="7894800" cy="1171440"/>
            <a:chOff x="1249200" y="1017720"/>
            <a:chExt cx="7894800" cy="1171440"/>
          </a:xfrm>
        </p:grpSpPr>
        <p:pic>
          <p:nvPicPr>
            <p:cNvPr id="168" name="Округлений прямокутник 12" descr=""/>
            <p:cNvPicPr/>
            <p:nvPr/>
          </p:nvPicPr>
          <p:blipFill>
            <a:blip r:embed="rId1"/>
            <a:stretch/>
          </p:blipFill>
          <p:spPr>
            <a:xfrm>
              <a:off x="1249200" y="1017720"/>
              <a:ext cx="789480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440000" y="1211400"/>
              <a:ext cx="74577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III. </a:t>
              </a:r>
              <a:r>
                <a:rPr b="1" lang="uk-UA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СНОВНІ ЗАВДАННЯ ТА РЕЗУЛЬТАТИ РОБОТИ ЗА ЗВІТНИЙ ПЕРІ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0" name=""/>
          <p:cNvGraphicFramePr/>
          <p:nvPr/>
        </p:nvGraphicFramePr>
        <p:xfrm>
          <a:off x="1424160" y="1989000"/>
          <a:ext cx="7561080" cy="2808360"/>
        </p:xfrm>
        <a:graphic>
          <a:graphicData uri="http://schemas.openxmlformats.org/drawingml/2006/table">
            <a:tbl>
              <a:tblPr/>
              <a:tblGrid>
                <a:gridCol w="2376360"/>
                <a:gridCol w="3529080"/>
                <a:gridCol w="165564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вдан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чини невикон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8268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 галузі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 startAt="1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вищ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іфікаційного рів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івників Ж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Обрати старших по будин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а перевірка знань ІТП в 8-ми житлово-експлуатаційних підприємст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но 193 старших по будин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424160" y="4869000"/>
          <a:ext cx="7561080" cy="1681200"/>
        </p:xfrm>
        <a:graphic>
          <a:graphicData uri="http://schemas.openxmlformats.org/drawingml/2006/table">
            <a:tbl>
              <a:tblPr/>
              <a:tblGrid>
                <a:gridCol w="2922480"/>
                <a:gridCol w="463860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інка ступеня досягнення мет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196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buClr>
                          <a:srgbClr val="c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ищ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нижче, ніж очікували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63120"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езультати відповідають поставленій ме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76120" indent="-276120">
                        <a:lnSpc>
                          <a:spcPct val="11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Wingdings 2"/>
                          <a:ea typeface="Wingdings 2"/>
                        </a:rPr>
                        <a:t>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іль не досягнута </a:t>
                      </a:r>
                      <a:r>
                        <a:rPr b="0" i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при показниках менше 50% від запланованих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d0d0d"/>
                      </a:solidFill>
                    </a:lnL>
                    <a:lnR w="5760">
                      <a:solidFill>
                        <a:srgbClr val="0d0d0d"/>
                      </a:solidFill>
                    </a:lnR>
                    <a:lnT w="5760">
                      <a:solidFill>
                        <a:srgbClr val="0d0d0d"/>
                      </a:solidFill>
                    </a:lnT>
                    <a:lnB w="5760">
                      <a:solidFill>
                        <a:srgbClr val="0d0d0d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45:13Z</dcterms:created>
  <dc:creator>Опалінський Віктор Вячеславович</dc:creator>
  <dc:description/>
  <dc:language>en-US</dc:language>
  <cp:lastModifiedBy>Хартник Марія Михайлівна</cp:lastModifiedBy>
  <dcterms:modified xsi:type="dcterms:W3CDTF">2020-06-30T12:45:22Z</dcterms:modified>
  <cp:revision>13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6C0062F285736439123A16CF628A5B2</vt:lpwstr>
  </property>
  <property fmtid="{D5CDD505-2E9C-101B-9397-08002B2CF9AE}" pid="3" name="TemplateUrl">
    <vt:lpwstr/>
  </property>
  <property fmtid="{D5CDD505-2E9C-101B-9397-08002B2CF9AE}" pid="4" name="_SourceUrl">
    <vt:lpwstr/>
  </property>
  <property fmtid="{D5CDD505-2E9C-101B-9397-08002B2CF9AE}" pid="5" name="_dlc_DocIdItemGuid">
    <vt:lpwstr>179e483b-0a1f-47f0-b6d8-3aebeb274d4d</vt:lpwstr>
  </property>
  <property fmtid="{D5CDD505-2E9C-101B-9397-08002B2CF9AE}" pid="6" name="xd_ProgID">
    <vt:lpwstr/>
  </property>
  <property fmtid="{D5CDD505-2E9C-101B-9397-08002B2CF9AE}" pid="7" name="xd_Signature">
    <vt:bool>0</vt:bool>
  </property>
</Properties>
</file>